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000000"/>
                </a:solidFill>
                <a:latin typeface="ZapfDingbats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B3204-85AD-4006-8D4E-19777147C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Num" idx="8"/>
          </p:nvPr>
        </p:nvSpPr>
        <p:spPr>
          <a:xfrm>
            <a:off x="3927600" y="8757360"/>
            <a:ext cx="3004920" cy="460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6165D-7CA7-46D8-93ED-B8C49EF0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9800" cy="3457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3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520" cy="4149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8"/>
            </a:gs>
            <a:gs pos="100000">
              <a:srgbClr val="003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548604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8"/>
            </a:gs>
            <a:gs pos="100000">
              <a:srgbClr val="003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548604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rlhewitt.inf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99960" y="281160"/>
            <a:ext cx="9943920" cy="1547280"/>
          </a:xfrm>
          <a:prstGeom prst="rect">
            <a:avLst/>
          </a:prstGeom>
          <a:noFill/>
          <a:ln w="9360">
            <a:noFill/>
          </a:ln>
          <a:effectLst>
            <a:outerShdw dist="152225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ts val="6500"/>
              </a:lnSpc>
              <a:buNone/>
            </a:pPr>
            <a:r>
              <a:rPr b="0" lang="en-US" sz="5400" spc="-1" strike="noStrike">
                <a:solidFill>
                  <a:srgbClr val="00ff99"/>
                </a:solidFill>
                <a:latin typeface="Microsoft Sans Serif"/>
                <a:ea typeface="Times New Roman"/>
              </a:rPr>
              <a:t>Criteria for Demarcation of</a:t>
            </a:r>
            <a:br>
              <a:rPr sz="5400"/>
            </a:br>
            <a:r>
              <a:rPr b="0" lang="en-US" sz="6000" spc="-1" strike="noStrike">
                <a:solidFill>
                  <a:srgbClr val="00ff99"/>
                </a:solidFill>
                <a:latin typeface="Microsoft Sans Serif"/>
                <a:ea typeface="Times New Roman"/>
              </a:rPr>
              <a:t>Software Patentability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159280"/>
            <a:ext cx="9143640" cy="4482720"/>
          </a:xfrm>
          <a:prstGeom prst="rect">
            <a:avLst/>
          </a:prstGeom>
          <a:noFill/>
          <a:ln w="9360">
            <a:noFill/>
          </a:ln>
          <a:effectLst>
            <a:outerShdw dist="63130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Carl Hewitt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007373"/>
                </a:solidFill>
                <a:uFillTx/>
                <a:latin typeface="Microsoft Sans Serif"/>
                <a:hlinkClick r:id="rId1"/>
              </a:rPr>
              <a:t>http://www.carlhewitt.info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Microsoft Sans Serif"/>
              </a:rPr>
              <a:t>@CarlHewitt on Twitter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USPTO SV Roundtable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February 12, 2013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Microsoft Sans Serif"/>
              </a:rPr>
              <a:t>©2013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7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c000"/>
                </a:solidFill>
                <a:latin typeface="Microsoft Sans Serif"/>
              </a:rPr>
              <a:t>Software Patentability </a:t>
            </a: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Quagmire</a:t>
            </a:r>
            <a:endParaRPr b="0" lang="en-US" sz="48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920" y="1600200"/>
            <a:ext cx="89938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Microsoft Sans Serif"/>
              </a:rPr>
              <a:t>Already machines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e original musical composition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e new storie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Discover scientific law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535824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6161"/>
                </a:solidFill>
                <a:latin typeface="Microsoft Sans Serif"/>
              </a:rPr>
              <a:t>Are </a:t>
            </a:r>
            <a:r>
              <a:rPr b="1" lang="en-US" sz="4400" spc="-1" strike="noStrike">
                <a:solidFill>
                  <a:srgbClr val="66ff33"/>
                </a:solidFill>
                <a:latin typeface="Microsoft Sans Serif"/>
              </a:rPr>
              <a:t>above</a:t>
            </a:r>
            <a:r>
              <a:rPr b="1" lang="en-US" sz="4400" spc="-1" strike="noStrike">
                <a:solidFill>
                  <a:srgbClr val="ff6161"/>
                </a:solidFill>
                <a:latin typeface="Microsoft Sans Serif"/>
              </a:rPr>
              <a:t> processes patent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8978400" cy="188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6161"/>
                </a:solidFill>
                <a:latin typeface="Microsoft Sans Serif"/>
              </a:rPr>
              <a:t>Quagmire </a:t>
            </a:r>
            <a:br>
              <a:rPr sz="6000"/>
            </a:br>
            <a:r>
              <a:rPr b="0" lang="en-US" sz="6000" spc="-1" strike="noStrike">
                <a:solidFill>
                  <a:srgbClr val="ffc000"/>
                </a:solidFill>
                <a:latin typeface="Microsoft Sans Serif"/>
              </a:rPr>
              <a:t>rapidly becoming worse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5240" y="2347560"/>
            <a:ext cx="8978400" cy="425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New Programming languages with constructs for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Setting goal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Strategies for achieving and assessing goal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Propositions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Conjecture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Metaphor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Analogie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Executable contingency plan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  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ff9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Microsoft Sans Serif"/>
              </a:rPr>
              <a:t>Argumentation about the above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ts val="6401"/>
              </a:lnSpc>
              <a:buNone/>
            </a:pPr>
            <a:r>
              <a:rPr b="0" lang="en-US" sz="6600" spc="-1" strike="noStrike">
                <a:solidFill>
                  <a:srgbClr val="ffffff"/>
                </a:solidFill>
                <a:latin typeface="Microsoft Sans Serif"/>
              </a:rPr>
              <a:t>Need </a:t>
            </a:r>
            <a:br>
              <a:rPr sz="6600"/>
            </a:br>
            <a:r>
              <a:rPr b="0" lang="en-US" sz="6600" spc="-1" strike="noStrike">
                <a:solidFill>
                  <a:srgbClr val="00ff99"/>
                </a:solidFill>
                <a:latin typeface="Microsoft Sans Serif"/>
              </a:rPr>
              <a:t>Criteria for Demarcation</a:t>
            </a:r>
            <a:endParaRPr b="0" lang="en-US" sz="66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32400" y="2512080"/>
            <a:ext cx="6539400" cy="289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Computation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Machine “thinking”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Software patentability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16200" y="3138840"/>
            <a:ext cx="22989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Microsoft Sans Serif"/>
              </a:rPr>
              <a:t>sa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Microsoft Sans Serif"/>
              </a:rPr>
              <a:t>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962360" y="1978560"/>
            <a:ext cx="641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b0f0"/>
                </a:solidFill>
                <a:latin typeface="Microsoft Sans Serif"/>
              </a:rPr>
              <a:t>{</a:t>
            </a:r>
            <a:endParaRPr b="0" lang="en-US" sz="1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6920"/>
            <a:ext cx="9143640" cy="157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3800" spc="-1" strike="noStrike">
                <a:solidFill>
                  <a:srgbClr val="66ff33"/>
                </a:solidFill>
                <a:latin typeface="Microsoft Sans Serif"/>
              </a:rPr>
              <a:t>Any of</a:t>
            </a:r>
            <a:endParaRPr b="0" lang="en-US" sz="138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640" y="2421720"/>
            <a:ext cx="9381240" cy="32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Microsoft Sans Serif"/>
              </a:rPr>
              <a:t>Computation (machine “thinking”) comprised of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ending a message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Receiving a message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ing a message receiver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pecifying how to process messages*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63080" y="6209640"/>
            <a:ext cx="7268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*including how to process future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06920"/>
            <a:ext cx="9106200" cy="173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66ff33"/>
                </a:solidFill>
                <a:latin typeface="Microsoft Sans Serif"/>
              </a:rPr>
              <a:t>Example:</a:t>
            </a:r>
            <a:br>
              <a:rPr sz="5400"/>
            </a:br>
            <a:r>
              <a:rPr b="0" lang="en-US" sz="5400" spc="-1" strike="noStrike">
                <a:solidFill>
                  <a:srgbClr val="ff6161"/>
                </a:solidFill>
                <a:latin typeface="Microsoft Sans Serif"/>
              </a:rPr>
              <a:t>A patent that crosses the line </a:t>
            </a:r>
            <a:endParaRPr b="0" lang="en-US" sz="5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440" y="2133720"/>
            <a:ext cx="9106200" cy="388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801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IBM “Watson” patent claims:*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Submitting a set of questions ...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 </a:t>
            </a: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Send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Receiving back ... a set of answers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857160" indent="-45720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Receiv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Comparing the set of answers received ... to answers in ...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914400" indent="-45720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Process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475880" y="6137640"/>
            <a:ext cx="43311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00"/>
                </a:solidFill>
                <a:latin typeface="Microsoft Sans Serif"/>
              </a:rPr>
              <a:t>*US 2012/0077178 A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71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b0f0"/>
                </a:solidFill>
                <a:latin typeface="Microsoft Sans Serif"/>
              </a:rPr>
              <a:t>Possible Uses of Criteria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</a:rPr>
              <a:t>USPTO to impose additional requirements in a manner similar to the current imposition of additional requirements for business method patent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COTUS to demarcate software unpatentability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92880"/>
            <a:ext cx="8229240" cy="79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Upcoming VC TaskForce Event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42000"/>
            <a:ext cx="8854920" cy="551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66ff33"/>
                </a:solidFill>
                <a:latin typeface="Microsoft Sans Serif"/>
              </a:rPr>
              <a:t>Future of Software IP</a:t>
            </a:r>
            <a:endParaRPr b="0" lang="en-US" sz="7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Event Chair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Carl Hewitt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60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Microsoft Sans Serif"/>
              </a:rPr>
              <a:t>mid-March 2013</a:t>
            </a:r>
            <a:endParaRPr b="0" lang="en-US" sz="8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p:properties xmlns:p="http://schemas.microsoft.com/office/2006/metadata/properties" xmlns:xsi="http://www.w3.org/2001/XMLSchema-instance">
  <documentManagement/>
</p:properties>
</file>

<file path=customXml/itemProps1.xml><?xml version="1.0" encoding="utf-8"?>
<ds:datastoreItem xmlns:ds="http://schemas.openxmlformats.org/officeDocument/2006/customXml" ds:itemID="{810010FF-37FB-49E8-9EF6-9A2DBB2298EB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8551B996-3930-4D93-A24C-B16E73CC7DF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82AC635D-AAE9-43C5-99AD-00B8B209C311}">
  <ds:schemaRefs>
    <ds:schemaRef ds:uri="http://schemas.microsoft.com/office/2006/documentManagement/types"/>
    <ds:schemaRef ds:uri="http://purl.org/dc/elements/1.1/"/>
    <ds:schemaRef ds:uri="http://purl.org/dc/dcmitype/"/>
    <ds:schemaRef ds:uri="http://www.w3.org/XML/1998/namespace"/>
    <ds:schemaRef ds:uri="http://purl.org/dc/terms/"/>
    <ds:schemaRef ds:uri="http://schemas.openxmlformats.org/package/2006/metadata/core-properties"/>
    <ds:schemaRef ds:uri="http://schemas.microsoft.com/office/2006/metadata/propertie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04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20:25:22Z</dcterms:created>
  <dc:creator/>
  <dc:description/>
  <dc:language>en-US</dc:language>
  <cp:lastModifiedBy/>
  <dcterms:modified xsi:type="dcterms:W3CDTF">2013-02-19T19:0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