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3.xml.rels" ContentType="application/vnd.openxmlformats-package.relationships+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customXml/item3.xml" ContentType="application/xml"/>
  <Override PartName="/customXml/itemProps3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customXml" Target="../customXml/item3.xml"/><Relationship Id="rId7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000" spc="-1" strike="noStrike">
                <a:solidFill>
                  <a:srgbClr val="000000"/>
                </a:solidFill>
                <a:latin typeface="ZapfDingbats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9605B7-5915-4019-8EAE-2CC510686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Num" idx="8"/>
          </p:nvPr>
        </p:nvSpPr>
        <p:spPr>
          <a:xfrm>
            <a:off x="3927600" y="8757360"/>
            <a:ext cx="3004920" cy="4608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841B2E-4C24-4795-8368-573A2DB90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ldImg"/>
          </p:nvPr>
        </p:nvSpPr>
        <p:spPr>
          <a:xfrm>
            <a:off x="1162080" y="690480"/>
            <a:ext cx="4609800" cy="34570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3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520" cy="4149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520" rIns="9252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8"/>
            </a:gs>
            <a:gs pos="100000">
              <a:srgbClr val="003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Third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Fourth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tarSymbol"/>
              <a:buChar char="»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Fifth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Third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Fourth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tarSymbol"/>
              <a:buChar char="»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Fifth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548604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68"/>
            </a:gs>
            <a:gs pos="100000">
              <a:srgbClr val="003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Click to edit Master text styles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Third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Fourth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tarSymbol"/>
              <a:buChar char="»"/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Fifth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5280"/>
            <a:ext cx="548604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rlhewitt.info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99960" y="281160"/>
            <a:ext cx="9943920" cy="1547280"/>
          </a:xfrm>
          <a:prstGeom prst="rect">
            <a:avLst/>
          </a:prstGeom>
          <a:noFill/>
          <a:ln w="9360">
            <a:noFill/>
          </a:ln>
          <a:effectLst>
            <a:outerShdw dist="152225" dir="2700000" blurRad="50760" rotWithShape="0">
              <a:srgbClr val="000000">
                <a:alpha val="4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ts val="6500"/>
              </a:lnSpc>
              <a:buNone/>
            </a:pPr>
            <a:r>
              <a:rPr b="0" lang="en-US" sz="5400" spc="-1" strike="noStrike">
                <a:solidFill>
                  <a:srgbClr val="00ff99"/>
                </a:solidFill>
                <a:latin typeface="Microsoft Sans Serif"/>
                <a:ea typeface="Times New Roman"/>
              </a:rPr>
              <a:t>Criteria for Demarcation of</a:t>
            </a:r>
            <a:br>
              <a:rPr sz="5400"/>
            </a:br>
            <a:r>
              <a:rPr b="0" lang="en-US" sz="6000" spc="-1" strike="noStrike">
                <a:solidFill>
                  <a:srgbClr val="00ff99"/>
                </a:solidFill>
                <a:latin typeface="Microsoft Sans Serif"/>
                <a:ea typeface="Times New Roman"/>
              </a:rPr>
              <a:t>Software Patentability</a:t>
            </a:r>
            <a:endParaRPr b="0" lang="en-US" sz="6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2159280"/>
            <a:ext cx="9143640" cy="4482720"/>
          </a:xfrm>
          <a:prstGeom prst="rect">
            <a:avLst/>
          </a:prstGeom>
          <a:noFill/>
          <a:ln w="9360">
            <a:noFill/>
          </a:ln>
          <a:effectLst>
            <a:outerShdw dist="63130" dir="2700000" blurRad="50760" rotWithShape="0">
              <a:srgbClr val="000000">
                <a:alpha val="40000"/>
              </a:srgbClr>
            </a:outerShdw>
          </a:effectLst>
        </p:spPr>
        <p:txBody>
          <a:bodyPr numCol="1" spcCol="0" anchor="t">
            <a:noAutofit/>
          </a:bodyPr>
          <a:p>
            <a:pPr marL="343080" indent="0" algn="ctr">
              <a:lnSpc>
                <a:spcPct val="8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icrosoft Sans Serif"/>
              </a:rPr>
              <a:t>Carl Hewitt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8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 u="sng">
                <a:solidFill>
                  <a:srgbClr val="007373"/>
                </a:solidFill>
                <a:uFillTx/>
                <a:latin typeface="Microsoft Sans Serif"/>
                <a:hlinkClick r:id="rId1"/>
              </a:rPr>
              <a:t>http://www.carlhewitt.info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8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Microsoft Sans Serif"/>
              </a:rPr>
              <a:t>@CarlHewitt on Twitter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8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ff6161"/>
                </a:solidFill>
                <a:latin typeface="Microsoft Sans Serif"/>
              </a:rPr>
              <a:t>USPTO SV Roundtable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8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ff6161"/>
                </a:solidFill>
                <a:latin typeface="Microsoft Sans Serif"/>
              </a:rPr>
              <a:t>February 12, 2013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bfbfbf"/>
                </a:solidFill>
                <a:latin typeface="Microsoft Sans Serif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bfbfbf"/>
                </a:solidFill>
                <a:latin typeface="Microsoft Sans Serif"/>
              </a:rPr>
              <a:t>©2013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Microsoft Sans Serif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5760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ffc000"/>
                </a:solidFill>
                <a:latin typeface="Microsoft Sans Serif"/>
              </a:rPr>
              <a:t>Software Patentability </a:t>
            </a:r>
            <a:r>
              <a:rPr b="0" lang="en-US" sz="4800" spc="-1" strike="noStrike">
                <a:solidFill>
                  <a:srgbClr val="ff6161"/>
                </a:solidFill>
                <a:latin typeface="Microsoft Sans Serif"/>
              </a:rPr>
              <a:t>Quagmire</a:t>
            </a:r>
            <a:endParaRPr b="0" lang="en-US" sz="48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920" y="1600200"/>
            <a:ext cx="899388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Microsoft Sans Serif"/>
              </a:rPr>
              <a:t>Already machines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Microsoft Sans Serif"/>
              </a:rPr>
              <a:t>Create original musical compositions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Microsoft Sans Serif"/>
              </a:rPr>
              <a:t>Create new stories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Microsoft Sans Serif"/>
              </a:rPr>
              <a:t>Discover scientific laws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Microsoft Sans Serif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0" y="5358240"/>
            <a:ext cx="914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  <a:sp3d extrusionH="57150">
              <a:bevelT prst="artDeco" w="57150" h="38100"/>
            </a:sp3d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6161"/>
                </a:solidFill>
                <a:latin typeface="Microsoft Sans Serif"/>
              </a:rPr>
              <a:t>Are </a:t>
            </a:r>
            <a:r>
              <a:rPr b="1" lang="en-US" sz="4400" spc="-1" strike="noStrike">
                <a:solidFill>
                  <a:srgbClr val="66ff33"/>
                </a:solidFill>
                <a:latin typeface="Microsoft Sans Serif"/>
              </a:rPr>
              <a:t>above</a:t>
            </a:r>
            <a:r>
              <a:rPr b="1" lang="en-US" sz="4400" spc="-1" strike="noStrike">
                <a:solidFill>
                  <a:srgbClr val="ff6161"/>
                </a:solidFill>
                <a:latin typeface="Microsoft Sans Serif"/>
              </a:rPr>
              <a:t> processes patentab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2840"/>
            <a:ext cx="8978400" cy="1887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ff6161"/>
                </a:solidFill>
                <a:latin typeface="Microsoft Sans Serif"/>
              </a:rPr>
              <a:t>Quagmire </a:t>
            </a:r>
            <a:br>
              <a:rPr sz="6000"/>
            </a:br>
            <a:r>
              <a:rPr b="0" lang="en-US" sz="6000" spc="-1" strike="noStrike">
                <a:solidFill>
                  <a:srgbClr val="ffc000"/>
                </a:solidFill>
                <a:latin typeface="Microsoft Sans Serif"/>
              </a:rPr>
              <a:t>rapidly becoming worse</a:t>
            </a:r>
            <a:endParaRPr b="0" lang="en-US" sz="6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5240" y="2347560"/>
            <a:ext cx="8978400" cy="425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Microsoft Sans Serif"/>
              </a:rPr>
              <a:t>New Programming languages with constructs for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Microsoft Sans Serif"/>
              </a:rPr>
              <a:t>Setting goals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Microsoft Sans Serif"/>
              </a:rPr>
              <a:t>Strategies for achieving and assessing goals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Microsoft Sans Serif"/>
              </a:rPr>
              <a:t>Propositions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ff33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Microsoft Sans Serif"/>
              </a:rPr>
              <a:t>Conjectures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ff33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Microsoft Sans Serif"/>
              </a:rPr>
              <a:t>Metaphors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66ff33"/>
              </a:buClr>
              <a:buFont typeface="Symbol" charset="2"/>
              <a:buChar char=""/>
              <a:tabLst>
                <a:tab algn="l" pos="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Microsoft Sans Serif"/>
              </a:rPr>
              <a:t>Analogies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Microsoft Sans Serif"/>
              </a:rPr>
              <a:t>Executable contingency plans</a:t>
            </a: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   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ff99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ff99"/>
                </a:solidFill>
                <a:latin typeface="Microsoft Sans Serif"/>
              </a:rPr>
              <a:t>Argumentation about the above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ts val="6401"/>
              </a:lnSpc>
              <a:buNone/>
            </a:pPr>
            <a:r>
              <a:rPr b="0" lang="en-US" sz="6600" spc="-1" strike="noStrike">
                <a:solidFill>
                  <a:srgbClr val="ffffff"/>
                </a:solidFill>
                <a:latin typeface="Microsoft Sans Serif"/>
              </a:rPr>
              <a:t>Need </a:t>
            </a:r>
            <a:br>
              <a:rPr sz="6600"/>
            </a:br>
            <a:r>
              <a:rPr b="0" lang="en-US" sz="6600" spc="-1" strike="noStrike">
                <a:solidFill>
                  <a:srgbClr val="00ff99"/>
                </a:solidFill>
                <a:latin typeface="Microsoft Sans Serif"/>
              </a:rPr>
              <a:t>Criteria for Demarcation</a:t>
            </a:r>
            <a:endParaRPr b="0" lang="en-US" sz="66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32400" y="2512080"/>
            <a:ext cx="6539400" cy="289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b0f0"/>
              </a:buClr>
              <a:buFont typeface="Symbol" charset="2"/>
              <a:buChar char=""/>
            </a:pPr>
            <a:r>
              <a:rPr b="0" lang="en-US" sz="4800" spc="-1" strike="noStrike">
                <a:solidFill>
                  <a:srgbClr val="00b0f0"/>
                </a:solidFill>
                <a:latin typeface="Microsoft Sans Serif"/>
              </a:rPr>
              <a:t>Computation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b0f0"/>
              </a:buClr>
              <a:buFont typeface="Symbol" charset="2"/>
              <a:buChar char=""/>
            </a:pPr>
            <a:r>
              <a:rPr b="0" lang="en-US" sz="4800" spc="-1" strike="noStrike">
                <a:solidFill>
                  <a:srgbClr val="00b0f0"/>
                </a:solidFill>
                <a:latin typeface="Microsoft Sans Serif"/>
              </a:rPr>
              <a:t>Machine “thinking”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b0f0"/>
              </a:buClr>
              <a:buFont typeface="Symbol" charset="2"/>
              <a:buChar char=""/>
            </a:pPr>
            <a:r>
              <a:rPr b="0" lang="en-US" sz="4800" spc="-1" strike="noStrike">
                <a:solidFill>
                  <a:srgbClr val="00b0f0"/>
                </a:solidFill>
                <a:latin typeface="Microsoft Sans Serif"/>
              </a:rPr>
              <a:t>Software patentability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-16200" y="3138840"/>
            <a:ext cx="229896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  <a:sp3d extrusionH="57150">
              <a:bevelT prst="artDeco" w="57150" h="38100"/>
            </a:sp3d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b0f0"/>
                </a:solidFill>
                <a:latin typeface="Microsoft Sans Serif"/>
              </a:rPr>
              <a:t>sam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b0f0"/>
                </a:solidFill>
                <a:latin typeface="Microsoft Sans Serif"/>
              </a:rPr>
              <a:t>t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1962360" y="1978560"/>
            <a:ext cx="641160" cy="31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  <a:sp3d extrusionH="57150">
              <a:bevelT prst="artDeco" w="57150" h="38100"/>
            </a:sp3d>
          </a:bodyPr>
          <a:p>
            <a:pPr>
              <a:lnSpc>
                <a:spcPct val="100000"/>
              </a:lnSpc>
            </a:pPr>
            <a:r>
              <a:rPr b="0" lang="en-US" sz="19900" spc="-1" strike="noStrike">
                <a:solidFill>
                  <a:srgbClr val="00b0f0"/>
                </a:solidFill>
                <a:latin typeface="Microsoft Sans Serif"/>
              </a:rPr>
              <a:t>{</a:t>
            </a:r>
            <a:endParaRPr b="0" lang="en-US" sz="19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06920"/>
            <a:ext cx="9143640" cy="157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13800" spc="-1" strike="noStrike">
                <a:solidFill>
                  <a:srgbClr val="66ff33"/>
                </a:solidFill>
                <a:latin typeface="Microsoft Sans Serif"/>
              </a:rPr>
              <a:t>Any of</a:t>
            </a:r>
            <a:endParaRPr b="0" lang="en-US" sz="138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640" y="2421720"/>
            <a:ext cx="9381240" cy="3276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Microsoft Sans Serif"/>
              </a:rPr>
              <a:t>Computation (machine “thinking”) comprised of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Microsoft Sans Serif"/>
              </a:rPr>
              <a:t>Sending a message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Microsoft Sans Serif"/>
              </a:rPr>
              <a:t>Receiving a message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Microsoft Sans Serif"/>
              </a:rPr>
              <a:t>Creating a message receiver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Microsoft Sans Serif"/>
              </a:rPr>
              <a:t>Specifying how to process messages*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963080" y="6209640"/>
            <a:ext cx="72684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  <a:sp3d extrusionH="57150">
              <a:bevelT prst="artDeco" w="57150" h="38100"/>
            </a:sp3d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66ff33"/>
                </a:solidFill>
                <a:latin typeface="Microsoft Sans Serif"/>
              </a:rPr>
              <a:t>*including how to process future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106920"/>
            <a:ext cx="9106200" cy="173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>
                <a:solidFill>
                  <a:srgbClr val="66ff33"/>
                </a:solidFill>
                <a:latin typeface="Microsoft Sans Serif"/>
              </a:rPr>
              <a:t>Example:</a:t>
            </a:r>
            <a:br>
              <a:rPr sz="5400"/>
            </a:br>
            <a:r>
              <a:rPr b="0" lang="en-US" sz="5400" spc="-1" strike="noStrike">
                <a:solidFill>
                  <a:srgbClr val="ff6161"/>
                </a:solidFill>
                <a:latin typeface="Microsoft Sans Serif"/>
              </a:rPr>
              <a:t>A patent that crosses the line </a:t>
            </a:r>
            <a:endParaRPr b="0" lang="en-US" sz="54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7440" y="2133720"/>
            <a:ext cx="9106200" cy="388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ts val="2801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icrosoft Sans Serif"/>
              </a:rPr>
              <a:t>IBM “Watson” patent claims:*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ts val="2801"/>
              </a:lnSpc>
              <a:spcBef>
                <a:spcPts val="720"/>
              </a:spcBef>
              <a:buClr>
                <a:srgbClr val="ffff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icrosoft Sans Serif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</a:rPr>
              <a:t>Submitting a set of questions ...”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lnSpc>
                <a:spcPts val="2801"/>
              </a:lnSpc>
              <a:spcBef>
                <a:spcPts val="720"/>
              </a:spcBef>
              <a:buClr>
                <a:srgbClr val="ff6161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600" spc="-1" strike="noStrike">
                <a:solidFill>
                  <a:srgbClr val="ff6161"/>
                </a:solidFill>
                <a:latin typeface="Microsoft Sans Serif"/>
              </a:rPr>
              <a:t> </a:t>
            </a:r>
            <a:r>
              <a:rPr b="0" lang="en-US" sz="3600" spc="-1" strike="noStrike">
                <a:solidFill>
                  <a:srgbClr val="ff6161"/>
                </a:solidFill>
                <a:latin typeface="Microsoft Sans Serif"/>
              </a:rPr>
              <a:t>Sending message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ts val="2801"/>
              </a:lnSpc>
              <a:spcBef>
                <a:spcPts val="720"/>
              </a:spcBef>
              <a:buClr>
                <a:srgbClr val="ffff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icrosoft Sans Serif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</a:rPr>
              <a:t>Receiving back ... a set of answers”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857160" indent="-457200">
              <a:lnSpc>
                <a:spcPts val="2801"/>
              </a:lnSpc>
              <a:spcBef>
                <a:spcPts val="720"/>
              </a:spcBef>
              <a:buClr>
                <a:srgbClr val="ff6161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600" spc="-1" strike="noStrike">
                <a:solidFill>
                  <a:srgbClr val="ff6161"/>
                </a:solidFill>
                <a:latin typeface="Microsoft Sans Serif"/>
              </a:rPr>
              <a:t>Receiving message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ts val="2801"/>
              </a:lnSpc>
              <a:spcBef>
                <a:spcPts val="720"/>
              </a:spcBef>
              <a:buClr>
                <a:srgbClr val="ffff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icrosoft Sans Serif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Microsoft Sans Serif"/>
              </a:rPr>
              <a:t>Comparing the set of answers received ... to answers in ...”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914400" indent="-457200">
              <a:lnSpc>
                <a:spcPts val="2801"/>
              </a:lnSpc>
              <a:spcBef>
                <a:spcPts val="720"/>
              </a:spcBef>
              <a:buClr>
                <a:srgbClr val="ff6161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US" sz="3600" spc="-1" strike="noStrike">
                <a:solidFill>
                  <a:srgbClr val="ff6161"/>
                </a:solidFill>
                <a:latin typeface="Microsoft Sans Serif"/>
              </a:rPr>
              <a:t>Processing message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475880" y="6137640"/>
            <a:ext cx="433116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threePt"/>
            </a:scene3d>
            <a:sp3d extrusionH="57150">
              <a:bevelT prst="artDeco" w="57150" h="38100"/>
            </a:sp3d>
          </a:bodyPr>
          <a:p>
            <a:pPr>
              <a:lnSpc>
                <a:spcPct val="100000"/>
              </a:lnSpc>
            </a:pPr>
            <a:r>
              <a:rPr b="0" lang="en-US" sz="3000" spc="-1" strike="noStrike">
                <a:solidFill>
                  <a:srgbClr val="ffff00"/>
                </a:solidFill>
                <a:latin typeface="Microsoft Sans Serif"/>
              </a:rPr>
              <a:t>*US 2012/0077178 A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07128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00b0f0"/>
                </a:solidFill>
                <a:latin typeface="Microsoft Sans Serif"/>
              </a:rPr>
              <a:t>Possible Uses of Criteria</a:t>
            </a:r>
            <a:endParaRPr b="0" lang="en-US" sz="60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Symbol" charset="2"/>
              <a:buChar char=""/>
            </a:pPr>
            <a:r>
              <a:rPr b="0" lang="en-US" sz="4000" spc="-1" strike="noStrike">
                <a:solidFill>
                  <a:srgbClr val="ffff00"/>
                </a:solidFill>
                <a:latin typeface="Microsoft Sans Serif"/>
              </a:rPr>
              <a:t>USPTO to impose additional requirements in a manner similar to the current imposition of additional requirements for business method patents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Symbol" charset="2"/>
              <a:buChar char=""/>
            </a:pPr>
            <a:r>
              <a:rPr b="0" lang="en-US" sz="4000" spc="-1" strike="noStrike">
                <a:solidFill>
                  <a:srgbClr val="66ff33"/>
                </a:solidFill>
                <a:latin typeface="Microsoft Sans Serif"/>
              </a:rPr>
              <a:t>SCOTUS to demarcate software unpatentability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92880"/>
            <a:ext cx="8229240" cy="794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Upcoming VC TaskForce Event</a:t>
            </a:r>
            <a:endParaRPr b="0" lang="en-US" sz="4400" spc="-1" strike="noStrike">
              <a:solidFill>
                <a:srgbClr val="000000"/>
              </a:solidFill>
              <a:latin typeface="ZapfDingbat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242000"/>
            <a:ext cx="8854920" cy="551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66ff33"/>
                </a:solidFill>
                <a:latin typeface="Microsoft Sans Serif"/>
              </a:rPr>
              <a:t>Future of Software IP</a:t>
            </a:r>
            <a:endParaRPr b="0" lang="en-US" sz="72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Microsoft Sans Serif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lnSpc>
                <a:spcPts val="6401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icrosoft Sans Serif"/>
              </a:rPr>
              <a:t>Event Chair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lnSpc>
                <a:spcPts val="6401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icrosoft Sans Serif"/>
              </a:rPr>
              <a:t>Carl Hewitt</a:t>
            </a:r>
            <a:endParaRPr b="0" lang="en-US" sz="48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lnSpc>
                <a:spcPts val="6401"/>
              </a:lnSpc>
              <a:spcBef>
                <a:spcPts val="1199"/>
              </a:spcBef>
              <a:buNone/>
              <a:tabLst>
                <a:tab algn="l" pos="0"/>
              </a:tabLst>
            </a:pPr>
            <a:endParaRPr b="0" lang="en-US" sz="6000" spc="-1" strike="noStrike">
              <a:solidFill>
                <a:srgbClr val="ffffff"/>
              </a:solidFill>
              <a:latin typeface="Microsoft Sans Serif"/>
            </a:endParaRPr>
          </a:p>
          <a:p>
            <a:pPr indent="0" algn="ctr">
              <a:lnSpc>
                <a:spcPts val="6401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en-US" sz="8000" spc="-1" strike="noStrike">
                <a:solidFill>
                  <a:srgbClr val="66ff33"/>
                </a:solidFill>
                <a:latin typeface="Microsoft Sans Serif"/>
              </a:rPr>
              <a:t>mid-March 2013</a:t>
            </a:r>
            <a:endParaRPr b="0" lang="en-US" sz="8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_rels/item3.xml.rels><?xml version="1.0" encoding="UTF-8"?>
<Relationships xmlns="http://schemas.openxmlformats.org/package/2006/relationships"><Relationship Id="rId1" Type="http://schemas.openxmlformats.org/officeDocument/2006/relationships/customXmlProps" Target="itemProps3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7A5381EB3B98D84C943B3B5AFD731380" ma:contentTypeVersion="0" ma:contentTypeDescription="Create a new document." ma:contentTypeScope="" ma:versionID="4f6912fe072b154629505d0d8ace8e6b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3.xml><?xml version="1.0" encoding="utf-8"?>
<p:properties xmlns:p="http://schemas.microsoft.com/office/2006/metadata/properties" xmlns:xsi="http://www.w3.org/2001/XMLSchema-instance">
  <documentManagement/>
</p:properties>
</file>

<file path=customXml/itemProps1.xml><?xml version="1.0" encoding="utf-8"?>
<ds:datastoreItem xmlns:ds="http://schemas.openxmlformats.org/officeDocument/2006/customXml" ds:itemID="{810010FF-37FB-49E8-9EF6-9A2DBB2298EB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8551B996-3930-4D93-A24C-B16E73CC7DF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3.xml><?xml version="1.0" encoding="utf-8"?>
<ds:datastoreItem xmlns:ds="http://schemas.openxmlformats.org/officeDocument/2006/customXml" ds:itemID="{82AC635D-AAE9-43C5-99AD-00B8B209C311}">
  <ds:schemaRefs>
    <ds:schemaRef ds:uri="http://schemas.microsoft.com/office/2006/documentManagement/types"/>
    <ds:schemaRef ds:uri="http://purl.org/dc/elements/1.1/"/>
    <ds:schemaRef ds:uri="http://purl.org/dc/dcmitype/"/>
    <ds:schemaRef ds:uri="http://www.w3.org/XML/1998/namespace"/>
    <ds:schemaRef ds:uri="http://purl.org/dc/terms/"/>
    <ds:schemaRef ds:uri="http://schemas.openxmlformats.org/package/2006/metadata/core-properties"/>
    <ds:schemaRef ds:uri="http://schemas.microsoft.com/office/2006/metadata/propertie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204</Words>
  <Paragraphs>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20:25:22Z</dcterms:created>
  <dc:creator/>
  <dc:description/>
  <dc:language>en-US</dc:language>
  <cp:lastModifiedBy/>
  <dcterms:modified xsi:type="dcterms:W3CDTF">2013-02-19T19:02:4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A5381EB3B98D84C943B3B5AFD731380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8</vt:r8>
  </property>
</Properties>
</file>