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9762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3000" cy="348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f6c19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ef6c1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-3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97620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8C74BD-4D82-4A46-81FF-112884A88D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85840" y="700200"/>
            <a:ext cx="4653000" cy="348912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01640" y="4419720"/>
            <a:ext cx="5616720" cy="41860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6c1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04920" y="3646800"/>
            <a:ext cx="85341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6c1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3646800"/>
            <a:ext cx="41644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7840" y="3646800"/>
            <a:ext cx="41644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6c1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27478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0680" y="1218960"/>
            <a:ext cx="27478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76080" y="1218960"/>
            <a:ext cx="27478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04920" y="3646800"/>
            <a:ext cx="27478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0680" y="3646800"/>
            <a:ext cx="27478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76080" y="3646800"/>
            <a:ext cx="27478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6c1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04920" y="12189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6c1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6c1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6c1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04920" y="274680"/>
            <a:ext cx="853416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6c1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04920" y="3646800"/>
            <a:ext cx="41644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6c1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04920" y="12189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6c1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7840" y="3646800"/>
            <a:ext cx="41644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6c1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3646800"/>
            <a:ext cx="85341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6c1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04920" y="3646800"/>
            <a:ext cx="85341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6c1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3646800"/>
            <a:ext cx="41644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7840" y="3646800"/>
            <a:ext cx="41644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6c1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27478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190680" y="1218960"/>
            <a:ext cx="27478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76080" y="1218960"/>
            <a:ext cx="27478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04920" y="3646800"/>
            <a:ext cx="27478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190680" y="3646800"/>
            <a:ext cx="27478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76080" y="3646800"/>
            <a:ext cx="27478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6c1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6c1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6c1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274680"/>
            <a:ext cx="853416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6c1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04920" y="3646800"/>
            <a:ext cx="41644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6c1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7840" y="3646800"/>
            <a:ext cx="41644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f6c1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4920" y="3646800"/>
            <a:ext cx="85341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f6c1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ef6c1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189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ef6c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ef6c1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ef6c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499"/>
              </a:spcBef>
              <a:buClr>
                <a:srgbClr val="ef6c1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499"/>
              </a:spcBef>
              <a:buClr>
                <a:srgbClr val="ef6c1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499"/>
              </a:spcBef>
              <a:buClr>
                <a:srgbClr val="fdfdf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499"/>
              </a:spcBef>
              <a:buClr>
                <a:srgbClr val="fdfdf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Text Box 9"/>
          <p:cNvSpPr/>
          <p:nvPr/>
        </p:nvSpPr>
        <p:spPr>
          <a:xfrm>
            <a:off x="914400" y="6261120"/>
            <a:ext cx="5562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ANNER &amp; WITCOFF | USPTO Software Partnership Roundtable |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ef6c19"/>
                </a:solidFill>
                <a:latin typeface="Arial"/>
              </a:rPr>
              <a:t>February 12, 2013</a:t>
            </a:r>
            <a:endParaRPr b="0" lang="en-US" sz="10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3" name="Text Box 6"/>
          <p:cNvSpPr/>
          <p:nvPr/>
        </p:nvSpPr>
        <p:spPr>
          <a:xfrm>
            <a:off x="47160" y="618336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7A458-11F8-49E2-B3F5-4C30727AD2F9}" type="slidenum">
              <a:rPr b="0" lang="en-US" sz="1200" spc="-1" strike="noStrike">
                <a:solidFill>
                  <a:srgbClr val="fdfdf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dfdf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f6c1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ef6c1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304920" y="12189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ef6c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ef6c1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ef6c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499"/>
              </a:spcBef>
              <a:buClr>
                <a:srgbClr val="ef6c1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499"/>
              </a:spcBef>
              <a:buClr>
                <a:srgbClr val="ef6c1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499"/>
              </a:spcBef>
              <a:buClr>
                <a:srgbClr val="fdfdf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499"/>
              </a:spcBef>
              <a:buClr>
                <a:srgbClr val="fdfdf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60280" y="796680"/>
            <a:ext cx="8607600" cy="15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f6c19"/>
                </a:solidFill>
                <a:uFillTx/>
                <a:latin typeface="Arial"/>
              </a:rPr>
              <a:t>Preparing Software Patent Applications </a:t>
            </a:r>
            <a:br>
              <a:rPr sz="3200"/>
            </a:br>
            <a:r>
              <a:rPr b="1" lang="en-US" sz="2000" spc="-1" strike="noStrike" u="sng">
                <a:solidFill>
                  <a:srgbClr val="ef6c19"/>
                </a:solidFill>
                <a:uFillTx/>
                <a:latin typeface="Arial"/>
              </a:rPr>
              <a:t>in 10 Minutes or Less</a:t>
            </a:r>
            <a:endParaRPr b="0" lang="en-US" sz="2000" spc="-1" strike="noStrike">
              <a:solidFill>
                <a:srgbClr val="ef6c1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85800" y="26100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PTO Software Partnership Roundtabl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Stanford Universit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eet Pat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tent Attorney (and former U.S. Patent Examin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nner &amp; Witcoff, Lt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-mail: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apatel@bannerwitcoff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ffice: 312-463-5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685800" y="6261120"/>
            <a:ext cx="5791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dfdfd"/>
                </a:solidFill>
                <a:latin typeface="Arial"/>
              </a:rPr>
              <a:t>FEBRUARY 12, 2013</a:t>
            </a:r>
            <a:endParaRPr b="0" lang="en-US" sz="1400" spc="-1" strike="noStrike">
              <a:solidFill>
                <a:srgbClr val="fdfdf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f6c19"/>
                </a:solidFill>
                <a:latin typeface="Arial"/>
              </a:rPr>
              <a:t>U.S. Patent Examiners – Examination of Software Patent Applications</a:t>
            </a:r>
            <a:endParaRPr b="0" lang="en-US" sz="2800" spc="-1" strike="noStrike">
              <a:solidFill>
                <a:srgbClr val="ef6c19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82760" y="1515600"/>
            <a:ext cx="8216640" cy="436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ef6c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lossary– contemporaneous dictionary, cite to spec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ef6c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ef6c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ear written record – esp. 35 USC 112, para. 6 means-plus-function claim limi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ef6c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ef6c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quire information submission from Applicants – 37 CFR 1.1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9040" y="641160"/>
            <a:ext cx="7772400" cy="95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f6c19"/>
                </a:solidFill>
                <a:latin typeface="Arial"/>
              </a:rPr>
              <a:t>www.bannerwitcoff.com</a:t>
            </a:r>
            <a:br>
              <a:rPr sz="3600"/>
            </a:br>
            <a:endParaRPr b="0" lang="en-US" sz="3600" spc="-1" strike="noStrike">
              <a:solidFill>
                <a:srgbClr val="ef6c19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690840" y="4549680"/>
            <a:ext cx="1558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dfdfd"/>
                </a:solidFill>
                <a:latin typeface="Arial"/>
              </a:rPr>
              <a:t>CHICAGO, IL</a:t>
            </a:r>
            <a:endParaRPr b="0" lang="en-US" sz="1000" spc="-1" strike="noStrike">
              <a:solidFill>
                <a:srgbClr val="fdfdf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dfdfd"/>
                </a:solidFill>
                <a:latin typeface="Arial"/>
              </a:rPr>
              <a:t>Ten South Wacker Drive</a:t>
            </a:r>
            <a:endParaRPr b="0" lang="en-US" sz="1000" spc="-1" strike="noStrike">
              <a:solidFill>
                <a:srgbClr val="fdfdf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dfdfd"/>
                </a:solidFill>
                <a:latin typeface="Arial"/>
              </a:rPr>
              <a:t>Suite 3000</a:t>
            </a:r>
            <a:endParaRPr b="0" lang="en-US" sz="1000" spc="-1" strike="noStrike">
              <a:solidFill>
                <a:srgbClr val="fdfdf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dfdfd"/>
                </a:solidFill>
                <a:latin typeface="Arial"/>
              </a:rPr>
              <a:t>Chicago, IL 6060</a:t>
            </a:r>
            <a:endParaRPr b="0" lang="en-US" sz="1000" spc="-1" strike="noStrike">
              <a:solidFill>
                <a:srgbClr val="fdfdf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dfdfd"/>
                </a:solidFill>
                <a:latin typeface="Arial"/>
              </a:rPr>
              <a:t>T 312.463.5000</a:t>
            </a:r>
            <a:endParaRPr b="0" lang="en-US" sz="1000" spc="-1" strike="noStrike">
              <a:solidFill>
                <a:srgbClr val="fdfdf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dfdfd"/>
                </a:solidFill>
                <a:latin typeface="Arial"/>
              </a:rPr>
              <a:t>F 312.463.5001</a:t>
            </a:r>
            <a:endParaRPr b="0" lang="en-US" sz="10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2575080" y="4549680"/>
            <a:ext cx="1485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dfdfd"/>
                </a:solidFill>
                <a:latin typeface="Arial"/>
              </a:rPr>
              <a:t>WASHINGTON, DC</a:t>
            </a:r>
            <a:endParaRPr b="0" lang="en-US" sz="1000" spc="-1" strike="noStrike">
              <a:solidFill>
                <a:srgbClr val="fdfdf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dfdfd"/>
                </a:solidFill>
                <a:latin typeface="Arial"/>
              </a:rPr>
              <a:t>1100 13</a:t>
            </a:r>
            <a:r>
              <a:rPr b="0" lang="en-US" sz="1000" spc="-1" strike="noStrike" baseline="30000">
                <a:solidFill>
                  <a:srgbClr val="fdfdfd"/>
                </a:solidFill>
                <a:latin typeface="Arial"/>
              </a:rPr>
              <a:t>th</a:t>
            </a:r>
            <a:r>
              <a:rPr b="0" lang="en-US" sz="1000" spc="-1" strike="noStrike">
                <a:solidFill>
                  <a:srgbClr val="fdfdfd"/>
                </a:solidFill>
                <a:latin typeface="Arial"/>
              </a:rPr>
              <a:t> Street NW</a:t>
            </a:r>
            <a:endParaRPr b="0" lang="en-US" sz="1000" spc="-1" strike="noStrike">
              <a:solidFill>
                <a:srgbClr val="fdfdf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dfdfd"/>
                </a:solidFill>
                <a:latin typeface="Arial"/>
              </a:rPr>
              <a:t>Suite 1200</a:t>
            </a:r>
            <a:endParaRPr b="0" lang="en-US" sz="1000" spc="-1" strike="noStrike">
              <a:solidFill>
                <a:srgbClr val="fdfdf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dfdfd"/>
                </a:solidFill>
                <a:latin typeface="Arial"/>
              </a:rPr>
              <a:t>Washington, DC 20005</a:t>
            </a:r>
            <a:endParaRPr b="0" lang="en-US" sz="1000" spc="-1" strike="noStrike">
              <a:solidFill>
                <a:srgbClr val="fdfdf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dfdfd"/>
                </a:solidFill>
                <a:latin typeface="Arial"/>
              </a:rPr>
              <a:t>T 202.824.3000</a:t>
            </a:r>
            <a:endParaRPr b="0" lang="en-US" sz="1000" spc="-1" strike="noStrike">
              <a:solidFill>
                <a:srgbClr val="fdfdf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dfdfd"/>
                </a:solidFill>
                <a:latin typeface="Arial"/>
              </a:rPr>
              <a:t>F 202.824.3001</a:t>
            </a:r>
            <a:endParaRPr b="0" lang="en-US" sz="10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4387320" y="4549680"/>
            <a:ext cx="1218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dfdfd"/>
                </a:solidFill>
                <a:latin typeface="Arial"/>
              </a:rPr>
              <a:t>BOSTON, MA</a:t>
            </a:r>
            <a:endParaRPr b="0" lang="en-US" sz="1000" spc="-1" strike="noStrike">
              <a:solidFill>
                <a:srgbClr val="fdfdf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dfdfd"/>
                </a:solidFill>
                <a:latin typeface="Arial"/>
              </a:rPr>
              <a:t>28 State Street</a:t>
            </a:r>
            <a:endParaRPr b="0" lang="en-US" sz="1000" spc="-1" strike="noStrike">
              <a:solidFill>
                <a:srgbClr val="fdfdf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dfdfd"/>
                </a:solidFill>
                <a:latin typeface="Arial"/>
              </a:rPr>
              <a:t>Suite 1800</a:t>
            </a:r>
            <a:endParaRPr b="0" lang="en-US" sz="1000" spc="-1" strike="noStrike">
              <a:solidFill>
                <a:srgbClr val="fdfdf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dfdfd"/>
                </a:solidFill>
                <a:latin typeface="Arial"/>
              </a:rPr>
              <a:t>Boston, MA 02109</a:t>
            </a:r>
            <a:endParaRPr b="0" lang="en-US" sz="1000" spc="-1" strike="noStrike">
              <a:solidFill>
                <a:srgbClr val="fdfdf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dfdfd"/>
                </a:solidFill>
                <a:latin typeface="Arial"/>
              </a:rPr>
              <a:t>T 617.720.9600</a:t>
            </a:r>
            <a:endParaRPr b="0" lang="en-US" sz="1000" spc="-1" strike="noStrike">
              <a:solidFill>
                <a:srgbClr val="fdfdf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dfdfd"/>
                </a:solidFill>
                <a:latin typeface="Arial"/>
              </a:rPr>
              <a:t>F 617.720.9601</a:t>
            </a:r>
            <a:endParaRPr b="0" lang="en-US" sz="10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5931720" y="4549680"/>
            <a:ext cx="1625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dfdfd"/>
                </a:solidFill>
                <a:latin typeface="Arial"/>
              </a:rPr>
              <a:t>PORTLAND, OR</a:t>
            </a:r>
            <a:endParaRPr b="0" lang="en-US" sz="1000" spc="-1" strike="noStrike">
              <a:solidFill>
                <a:srgbClr val="fdfdf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dfdfd"/>
                </a:solidFill>
                <a:latin typeface="Arial"/>
              </a:rPr>
              <a:t>601 S.W. Second Avenue</a:t>
            </a:r>
            <a:endParaRPr b="0" lang="en-US" sz="1000" spc="-1" strike="noStrike">
              <a:solidFill>
                <a:srgbClr val="fdfdf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dfdfd"/>
                </a:solidFill>
                <a:latin typeface="Arial"/>
              </a:rPr>
              <a:t>Suite 1900</a:t>
            </a:r>
            <a:endParaRPr b="0" lang="en-US" sz="1000" spc="-1" strike="noStrike">
              <a:solidFill>
                <a:srgbClr val="fdfdf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dfdfd"/>
                </a:solidFill>
                <a:latin typeface="Arial"/>
              </a:rPr>
              <a:t>Portland, OR 97204</a:t>
            </a:r>
            <a:endParaRPr b="0" lang="en-US" sz="1000" spc="-1" strike="noStrike">
              <a:solidFill>
                <a:srgbClr val="fdfdf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dfdfd"/>
                </a:solidFill>
                <a:latin typeface="Arial"/>
              </a:rPr>
              <a:t>T 503.425.6800</a:t>
            </a:r>
            <a:endParaRPr b="0" lang="en-US" sz="1000" spc="-1" strike="noStrike">
              <a:solidFill>
                <a:srgbClr val="fdfdf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dfdfd"/>
                </a:solidFill>
                <a:latin typeface="Arial"/>
              </a:rPr>
              <a:t>F 503.425.6801</a:t>
            </a:r>
            <a:endParaRPr b="0" lang="en-US" sz="1000" spc="-1" strike="noStrike">
              <a:solidFill>
                <a:srgbClr val="fdfdfd"/>
              </a:solidFill>
              <a:latin typeface="Arial"/>
            </a:endParaRPr>
          </a:p>
        </p:txBody>
      </p:sp>
      <p:sp>
        <p:nvSpPr>
          <p:cNvPr id="113" name="Rectangle 2"/>
          <p:cNvSpPr/>
          <p:nvPr/>
        </p:nvSpPr>
        <p:spPr>
          <a:xfrm>
            <a:off x="1227240" y="1751040"/>
            <a:ext cx="6949800" cy="23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eet Patel</a:t>
            </a:r>
            <a:endParaRPr b="0" lang="en-US" sz="2800" spc="-1" strike="noStrike">
              <a:solidFill>
                <a:srgbClr val="fdfdf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nner &amp; Witcoff, Ltd.</a:t>
            </a:r>
            <a:endParaRPr b="0" lang="en-US" sz="2800" spc="-1" strike="noStrike">
              <a:solidFill>
                <a:srgbClr val="fdfdf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fdf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updated slides please visi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ttp://www.bannerwitcoff.com/apatel</a:t>
            </a:r>
            <a:br>
              <a:rPr sz="3600"/>
            </a:br>
            <a:endParaRPr b="0" lang="en-US" sz="2800" spc="-1" strike="noStrike">
              <a:solidFill>
                <a:srgbClr val="fdfdf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6c19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ef6c1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00160" y="1639440"/>
            <a:ext cx="8732880" cy="42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ef6c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5 USC 112, Para.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ef6c1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ment of Software Inven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ef6c1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ritten Descrip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ef6c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actice Pointers for In-house Counsel &amp; Patent Attorne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ef6c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ination Suggestions for U.S. Patent Exami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6c19"/>
                </a:solidFill>
                <a:latin typeface="Arial"/>
              </a:rPr>
              <a:t>What Is a Software Patent?</a:t>
            </a:r>
            <a:endParaRPr b="0" lang="en-US" sz="2800" spc="-1" strike="noStrike">
              <a:solidFill>
                <a:srgbClr val="ef6c1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814320" y="1995120"/>
            <a:ext cx="7537680" cy="28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ftware is all about the implementation of a function across machines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6c19"/>
                </a:solidFill>
                <a:latin typeface="Arial"/>
              </a:rPr>
              <a:t>35 USC 112, Para. 1 </a:t>
            </a:r>
            <a:r>
              <a:rPr b="1" lang="en-US" sz="2200" spc="-1" strike="noStrike">
                <a:solidFill>
                  <a:srgbClr val="ef6c19"/>
                </a:solidFill>
                <a:latin typeface="Arial"/>
              </a:rPr>
              <a:t>– Enablement &amp; Written Description</a:t>
            </a:r>
            <a:endParaRPr b="0" lang="en-US" sz="2200" spc="-1" strike="noStrike">
              <a:solidFill>
                <a:srgbClr val="ef6c1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04920" y="12189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ef6c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abling Disclosure? –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a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actor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95000"/>
              </a:lnSpc>
              <a:spcBef>
                <a:spcPts val="700"/>
              </a:spcBef>
              <a:buClr>
                <a:srgbClr val="ef6c1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ope/Breadth of Clai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95000"/>
              </a:lnSpc>
              <a:spcBef>
                <a:spcPts val="700"/>
              </a:spcBef>
              <a:buClr>
                <a:srgbClr val="ef6c1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ure of Inve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95000"/>
              </a:lnSpc>
              <a:spcBef>
                <a:spcPts val="700"/>
              </a:spcBef>
              <a:buClr>
                <a:srgbClr val="ef6c1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74e0d"/>
                </a:solidFill>
                <a:latin typeface="Arial"/>
              </a:rPr>
              <a:t>Amount of Direction/Guidance Pres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95000"/>
              </a:lnSpc>
              <a:spcBef>
                <a:spcPts val="700"/>
              </a:spcBef>
              <a:buClr>
                <a:srgbClr val="ef6c1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74e0d"/>
                </a:solidFill>
                <a:latin typeface="Arial"/>
              </a:rPr>
              <a:t>Presence/Absence of Working Examp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95000"/>
              </a:lnSpc>
              <a:spcBef>
                <a:spcPts val="700"/>
              </a:spcBef>
              <a:buClr>
                <a:srgbClr val="ef6c1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74e0d"/>
                </a:solidFill>
                <a:latin typeface="Arial"/>
              </a:rPr>
              <a:t>State of the Ar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95000"/>
              </a:lnSpc>
              <a:spcBef>
                <a:spcPts val="700"/>
              </a:spcBef>
              <a:buClr>
                <a:srgbClr val="ef6c1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74e0d"/>
                </a:solidFill>
                <a:latin typeface="Arial"/>
              </a:rPr>
              <a:t>Relative Skill in the 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95000"/>
              </a:lnSpc>
              <a:spcBef>
                <a:spcPts val="700"/>
              </a:spcBef>
              <a:buClr>
                <a:srgbClr val="ef6c1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dictability/Unpredictability of the 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95000"/>
              </a:lnSpc>
              <a:spcBef>
                <a:spcPts val="700"/>
              </a:spcBef>
              <a:buClr>
                <a:srgbClr val="ef6c1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ntity of Experimentation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ef6c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Straight Connector 4"/>
          <p:cNvSpPr/>
          <p:nvPr/>
        </p:nvSpPr>
        <p:spPr>
          <a:xfrm>
            <a:off x="579600" y="3657600"/>
            <a:ext cx="7727760" cy="44280"/>
          </a:xfrm>
          <a:prstGeom prst="line">
            <a:avLst/>
          </a:prstGeom>
          <a:ln w="255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dfdf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f6c19"/>
                </a:solidFill>
                <a:latin typeface="Arial"/>
              </a:rPr>
              <a:t>State of the Art &amp; Relative Skill in the Art</a:t>
            </a:r>
            <a:endParaRPr b="0" lang="en-US" sz="2800" spc="-1" strike="noStrike">
              <a:solidFill>
                <a:srgbClr val="ef6c19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04920" y="12189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5000"/>
              </a:lnSpc>
              <a:spcBef>
                <a:spcPts val="601"/>
              </a:spcBef>
              <a:buClr>
                <a:srgbClr val="ef6c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e of the prior art existing at the application filing date is used to determine whether a particular disclosure is enabl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5000"/>
              </a:lnSpc>
              <a:spcBef>
                <a:spcPts val="499"/>
              </a:spcBef>
              <a:buClr>
                <a:srgbClr val="ef6c1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le I.D.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5000"/>
              </a:lnSpc>
              <a:spcBef>
                <a:spcPts val="499"/>
              </a:spcBef>
              <a:buClr>
                <a:srgbClr val="ef6c1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incorporation by reference – 37 CFR 1.57; MPEP 218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95000"/>
              </a:lnSpc>
              <a:spcBef>
                <a:spcPts val="499"/>
              </a:spcBef>
              <a:buClr>
                <a:srgbClr val="ef6c1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In re Hayes Microcomputer Prods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Fed. Cir. 199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95000"/>
              </a:lnSpc>
              <a:spcBef>
                <a:spcPts val="499"/>
              </a:spcBef>
              <a:buClr>
                <a:srgbClr val="ef6c1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sential Subject Matter”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5000"/>
              </a:lnSpc>
              <a:spcBef>
                <a:spcPts val="499"/>
              </a:spcBef>
              <a:buClr>
                <a:srgbClr val="ef6c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5000"/>
              </a:lnSpc>
              <a:spcBef>
                <a:spcPts val="601"/>
              </a:spcBef>
              <a:buClr>
                <a:srgbClr val="ef6c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ative skill in the art (PHOSITA) at the application filing date – adequacy of disclosur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5000"/>
              </a:lnSpc>
              <a:spcBef>
                <a:spcPts val="499"/>
              </a:spcBef>
              <a:buClr>
                <a:srgbClr val="ef6c1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nature of the invention 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acto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5000"/>
              </a:lnSpc>
              <a:spcBef>
                <a:spcPts val="499"/>
              </a:spcBef>
              <a:buClr>
                <a:srgbClr val="ef6c1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role of the computer program in carrying it o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5000"/>
              </a:lnSpc>
              <a:spcBef>
                <a:spcPts val="499"/>
              </a:spcBef>
              <a:buClr>
                <a:srgbClr val="ef6c1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omplexity of the computer programm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6c19"/>
                </a:solidFill>
                <a:latin typeface="Arial"/>
              </a:rPr>
              <a:t>Presence/Absence of Working Examples</a:t>
            </a:r>
            <a:endParaRPr b="0" lang="en-US" sz="2800" spc="-1" strike="noStrike">
              <a:solidFill>
                <a:srgbClr val="ef6c19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66280" y="1698120"/>
            <a:ext cx="768852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ef6c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ly available pro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ef6c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ef6c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fic hardware and off-the-shelf produ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ef6c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ef6c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phetic examples – “blue sky” patenting (MPEP 2164.0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f6c19"/>
                </a:solidFill>
                <a:latin typeface="Arial"/>
              </a:rPr>
              <a:t>Amount of Guidance/Direction Present</a:t>
            </a:r>
            <a:endParaRPr b="0" lang="en-US" sz="2800" spc="-1" strike="noStrike">
              <a:solidFill>
                <a:srgbClr val="ef6c19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04560" y="1566720"/>
            <a:ext cx="8434440" cy="43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ef6c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gorithm, Flowcharts, &amp; Pseudo-c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ef6c1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ctions v.s. 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ef6c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ef6c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– configuration file, XML file, data file, other human-readable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ef6c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ef6c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$1,000,000 question-- What level of disclosure is sufficien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ef6c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6c19"/>
                </a:solidFill>
                <a:latin typeface="Arial"/>
              </a:rPr>
              <a:t>35 USC 112, Para. 1 </a:t>
            </a:r>
            <a:r>
              <a:rPr b="1" lang="en-US" sz="2200" spc="-1" strike="noStrike">
                <a:solidFill>
                  <a:srgbClr val="ef6c19"/>
                </a:solidFill>
                <a:latin typeface="Arial"/>
              </a:rPr>
              <a:t>– Enablement &amp; Written Description</a:t>
            </a:r>
            <a:endParaRPr b="0" lang="en-US" sz="2200" spc="-1" strike="noStrike">
              <a:solidFill>
                <a:srgbClr val="ef6c19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406160" y="2440080"/>
            <a:ext cx="6296040" cy="27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ile some inventions require more disclosure, the adequacy of the description of an invention depends on its content in relation to the particular invention, not its length.” 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n re Hayes Microcomputer Prods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Fed. Cir. 1992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Content Placeholder 2"/>
          <p:cNvSpPr/>
          <p:nvPr/>
        </p:nvSpPr>
        <p:spPr>
          <a:xfrm>
            <a:off x="287280" y="1424160"/>
            <a:ext cx="85345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itten Description</a:t>
            </a:r>
            <a:endParaRPr b="0" lang="en-US" sz="2800" spc="-1" strike="noStrike">
              <a:solidFill>
                <a:srgbClr val="fdfdf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f6c19"/>
                </a:solidFill>
                <a:latin typeface="Arial"/>
              </a:rPr>
              <a:t>In-house Counsel:  Who Should Be Included In Software Invention Disclosure Meetings?</a:t>
            </a:r>
            <a:endParaRPr b="0" lang="en-US" sz="2800" spc="-1" strike="noStrike">
              <a:solidFill>
                <a:srgbClr val="ef6c1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87160" y="2023920"/>
            <a:ext cx="8251560" cy="31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ef6c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side Couns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ef6c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siness Development/Marke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ef6c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ct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ef6c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uter Programm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ef6c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6T17:11:07Z</dcterms:created>
  <dc:creator>fcpc</dc:creator>
  <dc:description/>
  <dc:language>en-US</dc:language>
  <cp:lastModifiedBy>Terry Maciejewski</cp:lastModifiedBy>
  <dcterms:modified xsi:type="dcterms:W3CDTF">2013-02-19T18:59:00Z</dcterms:modified>
  <cp:revision>92</cp:revision>
  <dc:subject/>
  <dc:title>Slide 1</dc:title>
</cp:coreProperties>
</file>