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04FF-18F9-4006-951A-B10D4A643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9B08-D78E-43D8-9CD7-7AD0B1174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1B59-1DE0-4663-B455-41146BC20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12BD-B8C3-41B6-95DC-435371CE3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3AEB-0AF2-4ADC-9A8A-6A231AD69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8753-937E-488F-85C4-35D832ED9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473C-8430-4D51-A6D7-6083C6024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71CB-825B-4345-B1BC-F8066C0FA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F235-3CD1-4FD6-BCC3-7AA34A9F73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5638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329A-67A0-418C-9B23-501CA1C330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2178-956B-484F-84E7-47224F4B0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06A2-2528-4A2A-8C1E-835C777A0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393D-4EC4-445C-8782-2A2155EB7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5811-893C-41D2-BD1C-C571C984C5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1173-C2CD-4499-B6AA-609A65B7C9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645A-637B-4684-9100-4CEC1D6FB5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161B-7F04-422E-A287-4C2BBAB82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D2A0-5C8B-41FD-91DF-3606E8D87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416B-6256-4A5B-ABBA-C275715F9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1B70-2938-4E31-B157-B1D36323E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5638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6E71-B6B9-41D0-98A2-DA39E467F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591E-A42F-4D73-848D-88E0EBB22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EDF0-AFDC-43FC-AA20-6D9F8D3F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4CFE-27C9-4047-A600-0DB2861B5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04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5B8A93F6-FC9B-4897-B9D0-6B8C61D86CE1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4579920"/>
            <a:ext cx="8839440" cy="2201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419040" y="6332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F04-F359-49EE-9843-A3FAF839B4D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60240" y="4871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608040"/>
            <a:ext cx="5411880" cy="357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4324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8840" y="4816440"/>
            <a:ext cx="4048200" cy="68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78480" y="5505480"/>
            <a:ext cx="339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ller Web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y Petersen  April 8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8181-58ED-456A-92D8-3BC2D9FEF6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X application details: Library Usag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920" y="942840"/>
            <a:ext cx="8464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 must match object file format of application (COFF or 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F libraries are dynamically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FF libraries may be statically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applications can be created to use shared system libraries or to incorporate the libraries they need (self-contain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practice is to use shared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pplication size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verall system memory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library maintenance to be de-coupled from 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7C0B-2D91-443A-9F59-0AD92724BF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 System V for Linux Release 1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 UNIX Runtime Librari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cludes COFF static shared libraries from Ope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SCO UNIX, OpenDesktop, all versions of Ope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s an rpm installable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required and enforced (at install time) on non-SCO Linux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ACC6-0588-4E03-8FFD-58DAD44B47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4280" y="860400"/>
            <a:ext cx="817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investment in legac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pplication runs on UNIX and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igration of applications to Linux even if source is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movement to Linux without requiring simultaneous upgrade or conversion of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 evaluation of Linux in produc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5B7D-147F-45EE-B125-F71E1E56B0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y start with OpenServer COFF static libraries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990720"/>
            <a:ext cx="817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ustomer interest (some large accou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ABI Project interest/development focussed on SCO COFF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base of applications for SCO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legac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not the ISV’s latest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 to Linux versions would be pain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apps may be firmly entrenched in customers business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B3FB-CB70-4949-80C0-4C50D9549C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at about UnixWare Libraries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 is to investigate value and 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dem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Ware apps are newer, more likely to get 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atible with Linux ver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Linux ABI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uch discussion in Linux ABI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Ware libraries are a much larger set than the COFF static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est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FFD3-E7CE-49CA-88C1-7E450544BF1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vailability &amp;  Delivery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6520" y="1041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ricing:  $149 pe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2760" y="1778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pricing available at standard SCO 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600" y="2565360"/>
            <a:ext cx="834372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 Linux Server 4.0 includes a SCO System V for Linux license at no charge via SC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is via Downlo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 Supports the SS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e Linux ABI is same as any other Linux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5E88-A28E-4620-8ED2-DFC083F929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btaining SCO System V for Linux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365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 Linux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SCO Linux customer will be notified of availability of ssvl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via SCO Linux Updat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ep process (run from shell as roo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“apt-get update” (updates the apt data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“apt-get install ssvl”  (downloads and installs ss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vl rpm will silently install (it verifies that it is being installed on a SCO Linux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F132-AE40-4A3E-BECC-E7BC452D2F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mmary: SCO System V for Linux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162080"/>
            <a:ext cx="843264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for SCO OpenServer Libraries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at current users of SCO UNIX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essage is investment p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value add for SCO Linux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non-SCO Linux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solution migration opportun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A49A-97E9-4673-9739-B314B20D5DB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nouncing the creation of…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89548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organization in SCO with the charter to create new licensing programs for our UNIX 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047840" cy="68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30A5-C8B6-4D05-B7E7-1960759A98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’s Histor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1219320" cy="80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057320" cy="878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65240" y="141120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143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ntion of UNIX at Bell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438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 establishes UNIX on 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4479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Unix Systems Laboratories source  code and UnixWare acquired by SCO in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ges with SCO in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743200"/>
            <a:ext cx="5790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Develops UNIX derivatives Xenix, OpenServer, bringing UNIX to the Intel volume market and setting the stage for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dera established to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Linux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143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676520" cy="282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1120" y="5105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 establishes SC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0EDF-CD64-4E60-93C2-848FB287BB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y license SCO’s Intellectual Property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reques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hareholder value through existing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Linux by licensing value-add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IX application use on Lin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CF79-9851-4AE2-A07C-6CED4A4655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rst Deliverabl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1840" y="26697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’s UNIX Shared Libraries from for use with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in use among many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encouraged by many Linux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s the number of UNIX applications available to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pcoming Plans for SCO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724280"/>
            <a:ext cx="8686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752480"/>
            <a:ext cx="78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O System V for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D7DC-0AB7-4CA9-95BA-50052B0261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104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xample: OpenServer Application Environ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06600" y="1693800"/>
            <a:ext cx="5181480" cy="3902040"/>
            <a:chOff x="1506600" y="1693800"/>
            <a:chExt cx="5181480" cy="3902040"/>
          </a:xfrm>
        </p:grpSpPr>
        <p:grpSp>
          <p:nvGrpSpPr>
            <p:cNvPr id="113" name=""/>
            <p:cNvGrpSpPr/>
            <p:nvPr/>
          </p:nvGrpSpPr>
          <p:grpSpPr>
            <a:xfrm>
              <a:off x="1506600" y="4449600"/>
              <a:ext cx="5181480" cy="1146240"/>
              <a:chOff x="1506600" y="4449600"/>
              <a:chExt cx="5181480" cy="1146240"/>
            </a:xfrm>
          </p:grpSpPr>
          <p:sp>
            <p:nvSpPr>
              <p:cNvPr id="114" name=""/>
              <p:cNvSpPr/>
              <p:nvPr/>
            </p:nvSpPr>
            <p:spPr>
              <a:xfrm>
                <a:off x="1506600" y="4452840"/>
                <a:ext cx="5181480" cy="457200"/>
              </a:xfrm>
              <a:prstGeom prst="rect">
                <a:avLst/>
              </a:prstGeom>
              <a:noFill/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06600" y="4452840"/>
                <a:ext cx="5181480" cy="1143000"/>
              </a:xfrm>
              <a:prstGeom prst="rect">
                <a:avLst/>
              </a:prstGeom>
              <a:noFill/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62480" y="4449600"/>
                <a:ext cx="29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penServer System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6160" y="4986360"/>
                <a:ext cx="294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penServer Ker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87480" y="1693800"/>
              <a:ext cx="4477320" cy="2530440"/>
              <a:chOff x="1887480" y="1693800"/>
              <a:chExt cx="4477320" cy="25304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909960" y="2690640"/>
                <a:ext cx="380520" cy="685800"/>
                <a:chOff x="3909960" y="2690640"/>
                <a:chExt cx="380520" cy="6858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62240" y="26906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85920" y="29192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09960" y="31478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712760" y="4071960"/>
                <a:ext cx="914400" cy="152280"/>
                <a:chOff x="4712760" y="4071960"/>
                <a:chExt cx="914400" cy="1522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471276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509400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539856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49600" y="3686040"/>
                <a:ext cx="609480" cy="533520"/>
                <a:chOff x="2649600" y="3686040"/>
                <a:chExt cx="609480" cy="533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60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452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5908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887480" y="1693800"/>
                <a:ext cx="2133720" cy="1828800"/>
                <a:chOff x="1887480" y="1693800"/>
                <a:chExt cx="2133720" cy="1828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887480" y="1693800"/>
                  <a:ext cx="2133720" cy="1828800"/>
                </a:xfrm>
                <a:prstGeom prst="hexagon">
                  <a:avLst>
                    <a:gd name="adj" fmla="val 29168"/>
                    <a:gd name="vf" fmla="val 115470"/>
                  </a:avLst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85200" y="2287440"/>
                  <a:ext cx="1538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336920" y="2355840"/>
                <a:ext cx="2027880" cy="1600200"/>
                <a:chOff x="4336920" y="2355840"/>
                <a:chExt cx="2027880" cy="16002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4336920" y="2355840"/>
                  <a:ext cx="1980720" cy="1600200"/>
                  <a:chOff x="4336920" y="2355840"/>
                  <a:chExt cx="1980720" cy="16002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4336920" y="2355840"/>
                    <a:ext cx="152388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89200" y="2508480"/>
                    <a:ext cx="152352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641480" y="2660760"/>
                    <a:ext cx="152352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793760" y="2813040"/>
                    <a:ext cx="152388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4775760" y="3051360"/>
                  <a:ext cx="1589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hared Libra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6544-A528-40A3-A542-4ED92C8898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06400" y="4378320"/>
            <a:ext cx="6264360" cy="1503360"/>
          </a:xfrm>
          <a:prstGeom prst="ellipse">
            <a:avLst/>
          </a:prstGeom>
          <a:solidFill>
            <a:srgbClr val="ffffff"/>
          </a:solidFill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ative Linux Application Environ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6840" y="4595760"/>
            <a:ext cx="2276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9960" y="52419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39880" y="1305000"/>
            <a:ext cx="4467240" cy="2914560"/>
            <a:chOff x="1739880" y="1305000"/>
            <a:chExt cx="4467240" cy="2914560"/>
          </a:xfrm>
        </p:grpSpPr>
        <p:sp>
          <p:nvSpPr>
            <p:cNvPr id="146" name=""/>
            <p:cNvSpPr/>
            <p:nvPr/>
          </p:nvSpPr>
          <p:spPr>
            <a:xfrm>
              <a:off x="1739880" y="1851120"/>
              <a:ext cx="2278080" cy="1646280"/>
            </a:xfrm>
            <a:custGeom>
              <a:avLst/>
              <a:gdLst>
                <a:gd name="textAreaLeft" fmla="*/ 500760 w 2278080"/>
                <a:gd name="textAreaRight" fmla="*/ 1777320 w 2278080"/>
                <a:gd name="textAreaTop" fmla="*/ 361800 h 1646280"/>
                <a:gd name="textAreaBottom" fmla="*/ 1284480 h 16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056120" y="2251080"/>
              <a:ext cx="380520" cy="685800"/>
              <a:chOff x="4056120" y="2251080"/>
              <a:chExt cx="38052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208400" y="22510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32080" y="24796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56120" y="27082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649600" y="3686040"/>
              <a:ext cx="609480" cy="533520"/>
              <a:chOff x="2649600" y="3686040"/>
              <a:chExt cx="6094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264960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5452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5908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183400" y="228744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312800" y="3927600"/>
              <a:ext cx="914400" cy="225000"/>
              <a:chOff x="4312800" y="3927600"/>
              <a:chExt cx="914400" cy="2250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431280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69404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99860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109760" y="1305000"/>
              <a:ext cx="2097360" cy="2536920"/>
              <a:chOff x="4109760" y="1305000"/>
              <a:chExt cx="2097360" cy="25369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4109400" y="1305000"/>
                <a:ext cx="1501560" cy="201600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4306320" y="1467000"/>
                <a:ext cx="1501560" cy="201600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506840" y="1666800"/>
                <a:ext cx="1501920" cy="201636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4705200" y="1825560"/>
                <a:ext cx="1501920" cy="201636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250600" y="3014640"/>
              <a:ext cx="93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70040" y="5148360"/>
            <a:ext cx="6337080" cy="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A38D-B8FC-472B-8494-06F1590BB9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2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nux for Native and OpenServer Applicat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7040" y="1378080"/>
            <a:ext cx="8086320" cy="4503600"/>
            <a:chOff x="257040" y="1378080"/>
            <a:chExt cx="8086320" cy="4503600"/>
          </a:xfrm>
        </p:grpSpPr>
        <p:sp>
          <p:nvSpPr>
            <p:cNvPr id="169" name=""/>
            <p:cNvSpPr/>
            <p:nvPr/>
          </p:nvSpPr>
          <p:spPr>
            <a:xfrm>
              <a:off x="806400" y="4378320"/>
              <a:ext cx="6264360" cy="1503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7720" y="4633920"/>
              <a:ext cx="2276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System C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9960" y="524196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ux 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0040" y="5073480"/>
              <a:ext cx="63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7320" y="4361040"/>
              <a:ext cx="3149640" cy="731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9480" y="4381560"/>
              <a:ext cx="2958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nServer System C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AB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7040" y="1512720"/>
              <a:ext cx="3906360" cy="2420640"/>
              <a:chOff x="257040" y="1512720"/>
              <a:chExt cx="3906360" cy="24206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040120" y="2466360"/>
                <a:ext cx="335160" cy="655560"/>
                <a:chOff x="2040120" y="2466360"/>
                <a:chExt cx="335160" cy="655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174400" y="246636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07080" y="268488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40120" y="290340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748240" y="3787920"/>
                <a:ext cx="805680" cy="145440"/>
                <a:chOff x="2748240" y="3787920"/>
                <a:chExt cx="805680" cy="1454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274824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08412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35268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28800" y="3418560"/>
                <a:ext cx="537120" cy="510120"/>
                <a:chOff x="928800" y="3418560"/>
                <a:chExt cx="537120" cy="510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2880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19736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92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7040" y="1512720"/>
                <a:ext cx="1881360" cy="1749600"/>
                <a:chOff x="257040" y="1512720"/>
                <a:chExt cx="1881360" cy="1749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7040" y="1512720"/>
                  <a:ext cx="1881360" cy="1749600"/>
                </a:xfrm>
                <a:prstGeom prst="hexagon">
                  <a:avLst>
                    <a:gd name="adj" fmla="val 26883"/>
                    <a:gd name="vf" fmla="val 115470"/>
                  </a:avLst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20560" y="2080440"/>
                  <a:ext cx="1538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416680" y="2145960"/>
                <a:ext cx="1746720" cy="1530360"/>
                <a:chOff x="2416680" y="2145960"/>
                <a:chExt cx="1746720" cy="15303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2416680" y="2145960"/>
                  <a:ext cx="1746720" cy="1530360"/>
                  <a:chOff x="2416680" y="2145960"/>
                  <a:chExt cx="1746720" cy="15303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2416680" y="2145960"/>
                    <a:ext cx="134388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50960" y="2291760"/>
                    <a:ext cx="134352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685240" y="2437560"/>
                    <a:ext cx="134352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819520" y="2583000"/>
                    <a:ext cx="134388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2803680" y="2811240"/>
                  <a:ext cx="12412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hared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ibra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378320" y="1378080"/>
              <a:ext cx="3965040" cy="2766960"/>
              <a:chOff x="4378320" y="1378080"/>
              <a:chExt cx="3965040" cy="2766960"/>
            </a:xfrm>
          </p:grpSpPr>
          <p:sp>
            <p:nvSpPr>
              <p:cNvPr id="199" name=""/>
              <p:cNvSpPr/>
              <p:nvPr/>
            </p:nvSpPr>
            <p:spPr>
              <a:xfrm>
                <a:off x="4378320" y="1897200"/>
                <a:ext cx="1990800" cy="1562040"/>
              </a:xfrm>
              <a:custGeom>
                <a:avLst/>
                <a:gdLst>
                  <a:gd name="textAreaLeft" fmla="*/ 437760 w 1990800"/>
                  <a:gd name="textAreaRight" fmla="*/ 1553040 w 1990800"/>
                  <a:gd name="textAreaTop" fmla="*/ 343440 h 1562040"/>
                  <a:gd name="textAreaBottom" fmla="*/ 1218600 h 156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402240" y="2276640"/>
                <a:ext cx="333000" cy="650520"/>
                <a:chOff x="6402240" y="2276640"/>
                <a:chExt cx="333000" cy="6505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535440" y="227664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468840" y="249336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402240" y="271044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173560" y="3638880"/>
                <a:ext cx="531720" cy="506160"/>
                <a:chOff x="5173560" y="3638880"/>
                <a:chExt cx="531720" cy="506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17356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3960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0528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677480" y="2311560"/>
                <a:ext cx="142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ux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625800" y="3867480"/>
                <a:ext cx="799560" cy="213840"/>
                <a:chOff x="6625800" y="3867480"/>
                <a:chExt cx="799560" cy="21384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662580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95916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722556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449760" y="1378080"/>
                <a:ext cx="1831680" cy="2408040"/>
                <a:chOff x="6449760" y="1378080"/>
                <a:chExt cx="1831680" cy="2408040"/>
              </a:xfrm>
            </p:grpSpPr>
            <p:sp>
              <p:nvSpPr>
                <p:cNvPr id="214" name=""/>
                <p:cNvSpPr/>
                <p:nvPr/>
              </p:nvSpPr>
              <p:spPr>
                <a:xfrm flipH="1">
                  <a:off x="6449400" y="1378080"/>
                  <a:ext cx="1311480" cy="191376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6621120" y="1531800"/>
                  <a:ext cx="1311480" cy="191376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6796440" y="1721520"/>
                  <a:ext cx="1311840" cy="191412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6969600" y="1872000"/>
                  <a:ext cx="1311840" cy="191412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7408080" y="2998800"/>
                <a:ext cx="935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ux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7FA4-CBE4-4409-9D97-2CDB2779B4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X application details: Object File Forma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object file formats that have been used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: original format (SVR2, SVR3, SVR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F: improved format introduced around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versions of SCO UNIX (3.2v4.2, OpenDesktop, etc) used COFF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erver supports both COFF and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Ware supports only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native mode is also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7DCB-7596-45B0-8EFF-018A86082D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21:43:51Z</dcterms:created>
  <dc:creator>Kip Henrie</dc:creator>
  <dc:description/>
  <dc:language>en-US</dc:language>
  <cp:lastModifiedBy>Jay Petersen</cp:lastModifiedBy>
  <cp:lastPrinted>2003-04-09T15:03:16Z</cp:lastPrinted>
  <dcterms:modified xsi:type="dcterms:W3CDTF">2003-04-09T17:01:01Z</dcterms:modified>
  <cp:revision>66</cp:revision>
  <dc:subject/>
  <dc:title>Title P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785875</vt:r8>
  </property>
  <property fmtid="{D5CDD505-2E9C-101B-9397-08002B2CF9AE}" pid="3" name="_AuthorEmail">
    <vt:lpwstr>bstowell@sco.com</vt:lpwstr>
  </property>
  <property fmtid="{D5CDD505-2E9C-101B-9397-08002B2CF9AE}" pid="4" name="_AuthorEmailDisplayName">
    <vt:lpwstr>Blake Stowell</vt:lpwstr>
  </property>
  <property fmtid="{D5CDD505-2E9C-101B-9397-08002B2CF9AE}" pid="5" name="_EmailSubject">
    <vt:lpwstr>Final Press Documents for SCOsource Announcements and Linuxworld Briefings</vt:lpwstr>
  </property>
</Properties>
</file>