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A5D57-B5A7-409C-BAEC-300172B1E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4A00-2D07-44D7-AB3F-2A8C78C8C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EAF2-E88F-4457-81FF-D663E1885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ADB2-99A1-48D4-A0F5-C86057739E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90BFD-E092-47F9-89D1-267D3EEC3B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F275-1E10-4317-815F-44E34ED9EB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3DF5E-4403-47B5-9B00-50CCE874A4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227B-5858-430B-AB51-A995E649D8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1DB6-7527-472E-842D-211B1C9231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5638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F7087-7B1C-4956-BB5A-3C6DDAFAFE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E349-4795-4E8B-AE5B-077BC73BBD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322C-0BB6-41CC-B7AB-6BE7C6073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0F9A-14E9-47F6-9566-406A631BD7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1E857-E0D4-4631-959F-AF956D7D2B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9D18C-A3A0-4E7B-9B27-A28CC833DF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D624-1E20-4FBE-9B32-F4B8BC9430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0601D-CF2E-4969-8695-8A3FFE5481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45F0-808D-495F-AAA3-732726598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3AD02-D460-4C19-98A4-9D97BF2F7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2FE0-C523-41B6-B777-DC9B37646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5638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E61C-29E7-4512-80C5-5F479115F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C9AC-8370-4B57-9098-B30A0D514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5DF6-20D5-446B-A82D-38FAF6048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8AA5-EC97-4B6B-95D2-1057C81CA0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19040" y="63241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Slide </a:t>
            </a:r>
            <a:fld id="{ED186E27-E98B-4DDE-B702-C03102118E00}" type="slidenum">
              <a:rPr b="0" lang="en-US" sz="1200" spc="-1" strike="noStrike">
                <a:solidFill>
                  <a:srgbClr val="3333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52280" y="4579920"/>
            <a:ext cx="8839440" cy="2201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419040" y="6332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F42F-27D3-4886-96E1-9C8F7F3AECB9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60240" y="4871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828800" y="608040"/>
            <a:ext cx="5411880" cy="3570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43243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8840" y="4816440"/>
            <a:ext cx="4048200" cy="682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78480" y="5505480"/>
            <a:ext cx="339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ller Web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y Petersen  April 8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4A0F-86A0-42CC-A947-999EE588F60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NIX application details: Library Usag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920" y="942840"/>
            <a:ext cx="8464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ies must match object file format of application (COFF or EL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F libraries are dynamically 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FF libraries may be statically lin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 applications can be created to use shared system libraries or to incorporate the libraries they need (self-contain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practice is to use shared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application size 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overall system memory 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library maintenance to be de-coupled from 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5C1F-335C-4B68-A104-E44ADD6AF8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CO System V for Linux Release 1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CO UNIX Runtime Librarie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173240"/>
            <a:ext cx="8464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lease includes COFF static shared libraries from Open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with SCO UNIX, OpenDesktop, all versions of Open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d as an rpm installable on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ense required and enforced (at install time) on non-SCO Linux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FBCE-A6CD-437A-9512-7EFA915FA65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Customer benefit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4280" y="860400"/>
            <a:ext cx="8170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investment in legacy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ice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 tr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integ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pplication runs on UNIX and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migration of applications to Linux even if source is no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s movement to Linux without requiring simultaneous upgrade or conversion of a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effective evaluation of Linux in production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E837-DA0F-4BA4-8D39-7A3ED3013DE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hy start with OpenServer COFF static libraries?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990720"/>
            <a:ext cx="8170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ustomer interest (some large accou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 ABI Project interest/development focussed on SCO COFF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base of applications for SCO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legacy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y not the ISV’s latest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grade to Linux versions would be pain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code may not b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theless, apps may be firmly entrenched in customers business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5810-06A6-452E-A2B8-BCE95905CA9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hat about UnixWare Libraries?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173240"/>
            <a:ext cx="8464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 is to investigate value and fea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dem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Ware apps are newer, more likely to get p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atible with Linux vers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Linux ABI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uch discussion in Linux ABI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Ware libraries are a much larger set than the COFF static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est som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BA9F7-3923-4B40-9A68-343FA4ED378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vailability &amp;  Delivery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6520" y="1041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Pricing:  $149 per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2760" y="17780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pricing available at standard SCO dis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4600" y="2565360"/>
            <a:ext cx="834372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 Linux Server 4.0 includes a SCO System V for Linux license at no charge via SCO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y is via Downloa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 Supports the SSV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e Linux ABI is same as any other Linux fe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185C-D4E8-4B86-8F70-CBF5DA7D76F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Obtaining SCO System V for Linux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11365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 Linux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ed SCO Linux customer will be notified of availability of ssvl via 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via SCO Linux Updat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tep process (run from shell as roo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“apt-get update” (updates the apt datab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“apt-get install ssvl”  (downloads and installs ssv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vl rpm will silently install (it verifies that it is being installed on a SCO Linux 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6AC5-D0C0-401A-9FC7-749DCC2E8EF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ummary: SCO System V for Linux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1162080"/>
            <a:ext cx="8432640" cy="33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ense for SCO OpenServer Libraries on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ed at current users of SCO UNIX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message is investment pre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value add for SCO Linux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non-SCO Linux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solution migration opportun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6EB2-E6FC-4B2C-B5BB-4B3F332EC21C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Announcing the creation of…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2895480"/>
            <a:ext cx="6781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w organization in SCO with the charter to create new licensing programs for our UNIX intellectu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4047840" cy="68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F586-9BF6-4DF5-9838-FA8F64EFC25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SCO’s History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1219320" cy="808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1057320" cy="878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65240" y="141120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1430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vention of UNIX at Bell L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24382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 establishes UNIX on In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144792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Unix Systems Laboratories source  code and UnixWare acquired by SCO in 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4419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Merges with SCO in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2743200"/>
            <a:ext cx="5790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Develops UNIX derivatives Xenix, OpenServer, bringing UNIX to the Intel volume market and setting the stage for Lin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38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37339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dera established to devel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Linux 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1143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5105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28600" y="5181480"/>
            <a:ext cx="1676520" cy="282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91120" y="51055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 establishes SC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81B9-575B-48B0-808A-0BD17BA5894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Why license SCO’s Intellectual Property?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s are request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shareholder value through existing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Linux by licensing value-add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UNIX application use on Linu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185E-7B9F-4950-BF98-1278DD90C9E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1430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First Deliverabl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1840" y="26697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’s UNIX Shared Libraries from for use with 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ready in use among many enterprise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ready encouraged by many Linux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s the number of UNIX applications available to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5638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pcoming Plans for SCO</a:t>
            </a: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724280"/>
            <a:ext cx="86868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752480"/>
            <a:ext cx="78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O System V for Linu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4345-BF37-4DFE-9CEB-4E8C0305334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104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Example: OpenServer Application Environmen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06600" y="1693800"/>
            <a:ext cx="5181480" cy="3902040"/>
            <a:chOff x="1506600" y="1693800"/>
            <a:chExt cx="5181480" cy="3902040"/>
          </a:xfrm>
        </p:grpSpPr>
        <p:grpSp>
          <p:nvGrpSpPr>
            <p:cNvPr id="113" name=""/>
            <p:cNvGrpSpPr/>
            <p:nvPr/>
          </p:nvGrpSpPr>
          <p:grpSpPr>
            <a:xfrm>
              <a:off x="1506600" y="4449600"/>
              <a:ext cx="5181480" cy="1146240"/>
              <a:chOff x="1506600" y="4449600"/>
              <a:chExt cx="5181480" cy="1146240"/>
            </a:xfrm>
          </p:grpSpPr>
          <p:sp>
            <p:nvSpPr>
              <p:cNvPr id="114" name=""/>
              <p:cNvSpPr/>
              <p:nvPr/>
            </p:nvSpPr>
            <p:spPr>
              <a:xfrm>
                <a:off x="1506600" y="4452840"/>
                <a:ext cx="5181480" cy="457200"/>
              </a:xfrm>
              <a:prstGeom prst="rect">
                <a:avLst/>
              </a:prstGeom>
              <a:noFill/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06600" y="4452840"/>
                <a:ext cx="5181480" cy="1143000"/>
              </a:xfrm>
              <a:prstGeom prst="rect">
                <a:avLst/>
              </a:prstGeom>
              <a:noFill/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562480" y="4449600"/>
                <a:ext cx="29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penServer System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76160" y="4986360"/>
                <a:ext cx="294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penServer Kerne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1887480" y="1693800"/>
              <a:ext cx="4477320" cy="2530440"/>
              <a:chOff x="1887480" y="1693800"/>
              <a:chExt cx="4477320" cy="253044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3909960" y="2690640"/>
                <a:ext cx="380520" cy="685800"/>
                <a:chOff x="3909960" y="2690640"/>
                <a:chExt cx="380520" cy="6858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4062240" y="2690640"/>
                  <a:ext cx="22824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85920" y="2919240"/>
                  <a:ext cx="22824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909960" y="3147840"/>
                  <a:ext cx="228240" cy="22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712760" y="4071960"/>
                <a:ext cx="914400" cy="152280"/>
                <a:chOff x="4712760" y="4071960"/>
                <a:chExt cx="914400" cy="152280"/>
              </a:xfrm>
            </p:grpSpPr>
            <p:sp>
              <p:nvSpPr>
                <p:cNvPr id="124" name=""/>
                <p:cNvSpPr/>
                <p:nvPr/>
              </p:nvSpPr>
              <p:spPr>
                <a:xfrm flipH="1">
                  <a:off x="4712760" y="4071960"/>
                  <a:ext cx="2286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5094000" y="4071960"/>
                  <a:ext cx="2286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5398560" y="4071960"/>
                  <a:ext cx="2286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649600" y="3686040"/>
                <a:ext cx="609480" cy="533520"/>
                <a:chOff x="2649600" y="3686040"/>
                <a:chExt cx="609480" cy="5335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649600" y="368604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954520" y="368604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259080" y="3686040"/>
                  <a:ext cx="0" cy="533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887480" y="1693800"/>
                <a:ext cx="2133720" cy="1828800"/>
                <a:chOff x="1887480" y="1693800"/>
                <a:chExt cx="2133720" cy="18288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887480" y="1693800"/>
                  <a:ext cx="2133720" cy="1828800"/>
                </a:xfrm>
                <a:prstGeom prst="hexagon">
                  <a:avLst>
                    <a:gd name="adj" fmla="val 29168"/>
                    <a:gd name="vf" fmla="val 115470"/>
                  </a:avLst>
                </a:prstGeom>
                <a:solidFill>
                  <a:srgbClr val="ffffff"/>
                </a:solidFill>
                <a:ln w="73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85200" y="2287440"/>
                  <a:ext cx="1538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penServer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pplic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4336920" y="2355840"/>
                <a:ext cx="2027880" cy="1600200"/>
                <a:chOff x="4336920" y="2355840"/>
                <a:chExt cx="2027880" cy="160020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4336920" y="2355840"/>
                  <a:ext cx="1980720" cy="1600200"/>
                  <a:chOff x="4336920" y="2355840"/>
                  <a:chExt cx="1980720" cy="160020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4336920" y="2355840"/>
                    <a:ext cx="1523880" cy="1143000"/>
                  </a:xfrm>
                  <a:prstGeom prst="rect">
                    <a:avLst/>
                  </a:prstGeom>
                  <a:solidFill>
                    <a:srgbClr val="ffffff"/>
                  </a:solidFill>
                  <a:ln w="73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489200" y="2508480"/>
                    <a:ext cx="1523520" cy="1143000"/>
                  </a:xfrm>
                  <a:prstGeom prst="rect">
                    <a:avLst/>
                  </a:prstGeom>
                  <a:solidFill>
                    <a:srgbClr val="ffffff"/>
                  </a:solidFill>
                  <a:ln w="73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641480" y="2660760"/>
                    <a:ext cx="1523520" cy="1143000"/>
                  </a:xfrm>
                  <a:prstGeom prst="rect">
                    <a:avLst/>
                  </a:prstGeom>
                  <a:solidFill>
                    <a:srgbClr val="ffffff"/>
                  </a:solidFill>
                  <a:ln w="73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793760" y="2813040"/>
                    <a:ext cx="1523880" cy="1143000"/>
                  </a:xfrm>
                  <a:prstGeom prst="rect">
                    <a:avLst/>
                  </a:prstGeom>
                  <a:solidFill>
                    <a:srgbClr val="ffffff"/>
                  </a:solidFill>
                  <a:ln w="73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"/>
                <p:cNvSpPr/>
                <p:nvPr/>
              </p:nvSpPr>
              <p:spPr>
                <a:xfrm>
                  <a:off x="4775760" y="3051360"/>
                  <a:ext cx="15890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penServe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hared Librar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C979-C08D-4A74-8E9D-20D7C61FC13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06400" y="4378320"/>
            <a:ext cx="6264360" cy="1503360"/>
          </a:xfrm>
          <a:prstGeom prst="ellipse">
            <a:avLst/>
          </a:prstGeom>
          <a:solidFill>
            <a:srgbClr val="ffffff"/>
          </a:solidFill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5638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Native Linux Application Environment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06840" y="4595760"/>
            <a:ext cx="2276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ux System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29960" y="524196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739880" y="1305000"/>
            <a:ext cx="4467240" cy="2914560"/>
            <a:chOff x="1739880" y="1305000"/>
            <a:chExt cx="4467240" cy="2914560"/>
          </a:xfrm>
        </p:grpSpPr>
        <p:sp>
          <p:nvSpPr>
            <p:cNvPr id="146" name=""/>
            <p:cNvSpPr/>
            <p:nvPr/>
          </p:nvSpPr>
          <p:spPr>
            <a:xfrm>
              <a:off x="1739880" y="1851120"/>
              <a:ext cx="2278080" cy="1646280"/>
            </a:xfrm>
            <a:custGeom>
              <a:avLst/>
              <a:gdLst>
                <a:gd name="textAreaLeft" fmla="*/ 500760 w 2278080"/>
                <a:gd name="textAreaRight" fmla="*/ 1777320 w 2278080"/>
                <a:gd name="textAreaTop" fmla="*/ 361800 h 1646280"/>
                <a:gd name="textAreaBottom" fmla="*/ 1284480 h 164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73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056120" y="2251080"/>
              <a:ext cx="380520" cy="685800"/>
              <a:chOff x="4056120" y="2251080"/>
              <a:chExt cx="380520" cy="685800"/>
            </a:xfrm>
          </p:grpSpPr>
          <p:sp>
            <p:nvSpPr>
              <p:cNvPr id="148" name=""/>
              <p:cNvSpPr/>
              <p:nvPr/>
            </p:nvSpPr>
            <p:spPr>
              <a:xfrm>
                <a:off x="4208400" y="225108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132080" y="247968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56120" y="2708280"/>
                <a:ext cx="22824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649600" y="3686040"/>
              <a:ext cx="609480" cy="533520"/>
              <a:chOff x="2649600" y="3686040"/>
              <a:chExt cx="609480" cy="533520"/>
            </a:xfrm>
          </p:grpSpPr>
          <p:sp>
            <p:nvSpPr>
              <p:cNvPr id="152" name=""/>
              <p:cNvSpPr/>
              <p:nvPr/>
            </p:nvSpPr>
            <p:spPr>
              <a:xfrm>
                <a:off x="2649600" y="368604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54520" y="368604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259080" y="3686040"/>
                <a:ext cx="0" cy="53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183400" y="2287440"/>
              <a:ext cx="142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ux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4312800" y="3927600"/>
              <a:ext cx="914400" cy="225000"/>
              <a:chOff x="4312800" y="3927600"/>
              <a:chExt cx="914400" cy="225000"/>
            </a:xfrm>
          </p:grpSpPr>
          <p:sp>
            <p:nvSpPr>
              <p:cNvPr id="157" name=""/>
              <p:cNvSpPr/>
              <p:nvPr/>
            </p:nvSpPr>
            <p:spPr>
              <a:xfrm flipH="1">
                <a:off x="4312800" y="3927600"/>
                <a:ext cx="228600" cy="22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4694040" y="3927600"/>
                <a:ext cx="228600" cy="22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998600" y="3927600"/>
                <a:ext cx="228600" cy="22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109760" y="1305000"/>
              <a:ext cx="2097360" cy="2536920"/>
              <a:chOff x="4109760" y="1305000"/>
              <a:chExt cx="2097360" cy="2536920"/>
            </a:xfrm>
          </p:grpSpPr>
          <p:sp>
            <p:nvSpPr>
              <p:cNvPr id="161" name=""/>
              <p:cNvSpPr/>
              <p:nvPr/>
            </p:nvSpPr>
            <p:spPr>
              <a:xfrm flipH="1">
                <a:off x="4109400" y="1305000"/>
                <a:ext cx="1501560" cy="2016000"/>
              </a:xfrm>
              <a:prstGeom prst="rtTriangle">
                <a:avLst/>
              </a:prstGeom>
              <a:solidFill>
                <a:srgbClr val="ffffff"/>
              </a:solidFill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4306320" y="1467000"/>
                <a:ext cx="1501560" cy="2016000"/>
              </a:xfrm>
              <a:prstGeom prst="rtTriangle">
                <a:avLst/>
              </a:prstGeom>
              <a:solidFill>
                <a:srgbClr val="ffffff"/>
              </a:solidFill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4506840" y="1666800"/>
                <a:ext cx="1501920" cy="2016360"/>
              </a:xfrm>
              <a:prstGeom prst="rtTriangle">
                <a:avLst/>
              </a:prstGeom>
              <a:solidFill>
                <a:srgbClr val="ffffff"/>
              </a:solidFill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4705200" y="1825560"/>
                <a:ext cx="1501920" cy="2016360"/>
              </a:xfrm>
              <a:prstGeom prst="rtTriangle">
                <a:avLst/>
              </a:prstGeom>
              <a:solidFill>
                <a:srgbClr val="ffffff"/>
              </a:solidFill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5250600" y="3014640"/>
              <a:ext cx="935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nux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ibra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770040" y="5148360"/>
            <a:ext cx="6337080" cy="0"/>
          </a:xfrm>
          <a:prstGeom prst="line">
            <a:avLst/>
          </a:prstGeom>
          <a:ln w="73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7252-7D2C-4176-8D2A-CA8312A911C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2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Linux for Native and OpenServer Application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57040" y="1378080"/>
            <a:ext cx="8086320" cy="4503600"/>
            <a:chOff x="257040" y="1378080"/>
            <a:chExt cx="8086320" cy="4503600"/>
          </a:xfrm>
        </p:grpSpPr>
        <p:sp>
          <p:nvSpPr>
            <p:cNvPr id="169" name=""/>
            <p:cNvSpPr/>
            <p:nvPr/>
          </p:nvSpPr>
          <p:spPr>
            <a:xfrm>
              <a:off x="806400" y="4378320"/>
              <a:ext cx="6264360" cy="1503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87720" y="4633920"/>
              <a:ext cx="2276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ux System Cal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29960" y="5241960"/>
              <a:ext cx="202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nux Kern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0040" y="5073480"/>
              <a:ext cx="633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7320" y="4361040"/>
              <a:ext cx="3149640" cy="7315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79480" y="4381560"/>
              <a:ext cx="29588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penServer System Cal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ux AB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7040" y="1512720"/>
              <a:ext cx="3906360" cy="2420640"/>
              <a:chOff x="257040" y="1512720"/>
              <a:chExt cx="3906360" cy="242064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2040120" y="2466360"/>
                <a:ext cx="335160" cy="655560"/>
                <a:chOff x="2040120" y="2466360"/>
                <a:chExt cx="335160" cy="6555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174400" y="2466360"/>
                  <a:ext cx="200880" cy="218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107080" y="2684880"/>
                  <a:ext cx="200880" cy="218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040120" y="2903400"/>
                  <a:ext cx="200880" cy="218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748240" y="3787920"/>
                <a:ext cx="805680" cy="145440"/>
                <a:chOff x="2748240" y="3787920"/>
                <a:chExt cx="805680" cy="145440"/>
              </a:xfrm>
            </p:grpSpPr>
            <p:sp>
              <p:nvSpPr>
                <p:cNvPr id="181" name=""/>
                <p:cNvSpPr/>
                <p:nvPr/>
              </p:nvSpPr>
              <p:spPr>
                <a:xfrm flipH="1">
                  <a:off x="2748240" y="3787920"/>
                  <a:ext cx="201240" cy="14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3084120" y="3787920"/>
                  <a:ext cx="201240" cy="14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3352680" y="3787920"/>
                  <a:ext cx="201240" cy="14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928800" y="3418560"/>
                <a:ext cx="537120" cy="510120"/>
                <a:chOff x="928800" y="3418560"/>
                <a:chExt cx="537120" cy="5101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928800" y="3418560"/>
                  <a:ext cx="0" cy="51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197360" y="3418560"/>
                  <a:ext cx="0" cy="51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1465920" y="3418560"/>
                  <a:ext cx="0" cy="51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257040" y="1512720"/>
                <a:ext cx="1881360" cy="1749600"/>
                <a:chOff x="257040" y="1512720"/>
                <a:chExt cx="1881360" cy="17496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57040" y="1512720"/>
                  <a:ext cx="1881360" cy="1749600"/>
                </a:xfrm>
                <a:prstGeom prst="hexagon">
                  <a:avLst>
                    <a:gd name="adj" fmla="val 26883"/>
                    <a:gd name="vf" fmla="val 115470"/>
                  </a:avLst>
                </a:prstGeom>
                <a:solidFill>
                  <a:srgbClr val="ffffff"/>
                </a:solidFill>
                <a:ln w="73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20560" y="2080440"/>
                  <a:ext cx="1538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penServer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pplic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416680" y="2145960"/>
                <a:ext cx="1746720" cy="1530360"/>
                <a:chOff x="2416680" y="2145960"/>
                <a:chExt cx="1746720" cy="153036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2416680" y="2145960"/>
                  <a:ext cx="1746720" cy="1530360"/>
                  <a:chOff x="2416680" y="2145960"/>
                  <a:chExt cx="1746720" cy="1530360"/>
                </a:xfrm>
              </p:grpSpPr>
              <p:sp>
                <p:nvSpPr>
                  <p:cNvPr id="193" name=""/>
                  <p:cNvSpPr/>
                  <p:nvPr/>
                </p:nvSpPr>
                <p:spPr>
                  <a:xfrm>
                    <a:off x="2416680" y="2145960"/>
                    <a:ext cx="1343880" cy="1093320"/>
                  </a:xfrm>
                  <a:prstGeom prst="rect">
                    <a:avLst/>
                  </a:prstGeom>
                  <a:solidFill>
                    <a:srgbClr val="ffffff"/>
                  </a:solidFill>
                  <a:ln w="73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2550960" y="2291760"/>
                    <a:ext cx="1343520" cy="1093320"/>
                  </a:xfrm>
                  <a:prstGeom prst="rect">
                    <a:avLst/>
                  </a:prstGeom>
                  <a:solidFill>
                    <a:srgbClr val="ffffff"/>
                  </a:solidFill>
                  <a:ln w="73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2685240" y="2437560"/>
                    <a:ext cx="1343520" cy="1093320"/>
                  </a:xfrm>
                  <a:prstGeom prst="rect">
                    <a:avLst/>
                  </a:prstGeom>
                  <a:solidFill>
                    <a:srgbClr val="ffffff"/>
                  </a:solidFill>
                  <a:ln w="73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819520" y="2583000"/>
                    <a:ext cx="1343880" cy="1093320"/>
                  </a:xfrm>
                  <a:prstGeom prst="rect">
                    <a:avLst/>
                  </a:prstGeom>
                  <a:solidFill>
                    <a:srgbClr val="ffffff"/>
                  </a:solidFill>
                  <a:ln w="73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" name=""/>
                <p:cNvSpPr/>
                <p:nvPr/>
              </p:nvSpPr>
              <p:spPr>
                <a:xfrm>
                  <a:off x="2803680" y="2811240"/>
                  <a:ext cx="124128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penServe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hared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Librar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4378320" y="1378080"/>
              <a:ext cx="3965040" cy="2766960"/>
              <a:chOff x="4378320" y="1378080"/>
              <a:chExt cx="3965040" cy="2766960"/>
            </a:xfrm>
          </p:grpSpPr>
          <p:sp>
            <p:nvSpPr>
              <p:cNvPr id="199" name=""/>
              <p:cNvSpPr/>
              <p:nvPr/>
            </p:nvSpPr>
            <p:spPr>
              <a:xfrm>
                <a:off x="4378320" y="1897200"/>
                <a:ext cx="1990800" cy="1562040"/>
              </a:xfrm>
              <a:custGeom>
                <a:avLst/>
                <a:gdLst>
                  <a:gd name="textAreaLeft" fmla="*/ 437760 w 1990800"/>
                  <a:gd name="textAreaRight" fmla="*/ 1553040 w 1990800"/>
                  <a:gd name="textAreaTop" fmla="*/ 343440 h 1562040"/>
                  <a:gd name="textAreaBottom" fmla="*/ 1218600 h 1562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73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6402240" y="2276640"/>
                <a:ext cx="333000" cy="650520"/>
                <a:chOff x="6402240" y="2276640"/>
                <a:chExt cx="333000" cy="6505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535440" y="2276640"/>
                  <a:ext cx="199800" cy="21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468840" y="2493360"/>
                  <a:ext cx="199800" cy="21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402240" y="2710440"/>
                  <a:ext cx="199800" cy="21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173560" y="3638880"/>
                <a:ext cx="531720" cy="506160"/>
                <a:chOff x="5173560" y="3638880"/>
                <a:chExt cx="531720" cy="506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173560" y="3638880"/>
                  <a:ext cx="0" cy="50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439600" y="3638880"/>
                  <a:ext cx="0" cy="50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705280" y="3638880"/>
                  <a:ext cx="0" cy="50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4677480" y="2311560"/>
                <a:ext cx="142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ux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6625800" y="3867480"/>
                <a:ext cx="799560" cy="213840"/>
                <a:chOff x="6625800" y="3867480"/>
                <a:chExt cx="799560" cy="213840"/>
              </a:xfrm>
            </p:grpSpPr>
            <p:sp>
              <p:nvSpPr>
                <p:cNvPr id="210" name=""/>
                <p:cNvSpPr/>
                <p:nvPr/>
              </p:nvSpPr>
              <p:spPr>
                <a:xfrm flipH="1">
                  <a:off x="6625800" y="3867480"/>
                  <a:ext cx="199800" cy="21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6959160" y="3867480"/>
                  <a:ext cx="199800" cy="21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7225560" y="3867480"/>
                  <a:ext cx="199800" cy="213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449760" y="1378080"/>
                <a:ext cx="1831680" cy="2408040"/>
                <a:chOff x="6449760" y="1378080"/>
                <a:chExt cx="1831680" cy="2408040"/>
              </a:xfrm>
            </p:grpSpPr>
            <p:sp>
              <p:nvSpPr>
                <p:cNvPr id="214" name=""/>
                <p:cNvSpPr/>
                <p:nvPr/>
              </p:nvSpPr>
              <p:spPr>
                <a:xfrm flipH="1">
                  <a:off x="6449400" y="1378080"/>
                  <a:ext cx="1311480" cy="1913760"/>
                </a:xfrm>
                <a:prstGeom prst="rtTriangle">
                  <a:avLst/>
                </a:prstGeom>
                <a:solidFill>
                  <a:srgbClr val="ffffff"/>
                </a:solidFill>
                <a:ln w="73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>
                  <a:off x="6621120" y="1531800"/>
                  <a:ext cx="1311480" cy="1913760"/>
                </a:xfrm>
                <a:prstGeom prst="rtTriangle">
                  <a:avLst/>
                </a:prstGeom>
                <a:solidFill>
                  <a:srgbClr val="ffffff"/>
                </a:solidFill>
                <a:ln w="73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>
                  <a:off x="6796440" y="1721520"/>
                  <a:ext cx="1311840" cy="1914120"/>
                </a:xfrm>
                <a:prstGeom prst="rtTriangle">
                  <a:avLst/>
                </a:prstGeom>
                <a:solidFill>
                  <a:srgbClr val="ffffff"/>
                </a:solidFill>
                <a:ln w="73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6969600" y="1872000"/>
                  <a:ext cx="1311840" cy="1914120"/>
                </a:xfrm>
                <a:prstGeom prst="rtTriangle">
                  <a:avLst/>
                </a:prstGeom>
                <a:solidFill>
                  <a:srgbClr val="ffffff"/>
                </a:solidFill>
                <a:ln w="73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7408080" y="2998800"/>
                <a:ext cx="9352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inux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har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ibrar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1DB7-9856-475D-952F-4B8A8E22D3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UNIX application details: Object File Format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173240"/>
            <a:ext cx="8464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object file formats that have been used in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FF: original format (SVR2, SVR3, SVR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F: improved format introduced around 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versions of SCO UNIX (3.2v4.2, OpenDesktop, etc) used COFF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erver supports both COFF and 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xWare supports only 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ux native mode is also 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1780-A3F2-4D21-84D6-69BDD4DBF97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21:43:51Z</dcterms:created>
  <dc:creator>Kip Henrie</dc:creator>
  <dc:description/>
  <dc:language>en-US</dc:language>
  <cp:lastModifiedBy>Jay Petersen</cp:lastModifiedBy>
  <cp:lastPrinted>2003-04-09T15:03:16Z</cp:lastPrinted>
  <dcterms:modified xsi:type="dcterms:W3CDTF">2003-04-09T17:01:01Z</dcterms:modified>
  <cp:revision>66</cp:revision>
  <dc:subject/>
  <dc:title>Title Pa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785875</vt:r8>
  </property>
  <property fmtid="{D5CDD505-2E9C-101B-9397-08002B2CF9AE}" pid="3" name="_AuthorEmail">
    <vt:lpwstr>bstowell@sco.com</vt:lpwstr>
  </property>
  <property fmtid="{D5CDD505-2E9C-101B-9397-08002B2CF9AE}" pid="4" name="_AuthorEmailDisplayName">
    <vt:lpwstr>Blake Stowell</vt:lpwstr>
  </property>
  <property fmtid="{D5CDD505-2E9C-101B-9397-08002B2CF9AE}" pid="5" name="_EmailSubject">
    <vt:lpwstr>Final Press Documents for SCOsource Announcements and Linuxworld Briefings</vt:lpwstr>
  </property>
</Properties>
</file>